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lick to move the slide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34A4-9159-4105-9DC1-A418BA756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C62D-634D-470F-892A-CD1992F45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kipping 7.6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19FB-4CAF-4EBE-9D93-EF1801293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5C0D-4685-486A-AA6E-E71CDE57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0D5E-688F-4E72-9A53-EEE9B254D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96D4-786D-4893-8608-E8D89CC0A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A5E3-0C6D-4E31-A8C2-65D871A0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71F2-546F-4DCC-8E3A-EB80606A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879C-2D0D-4A31-9B76-C9BEFCD4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3F75-08BF-4CD9-99EA-2ECDE4FC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7BD9-5BB6-4FF6-A9FF-FC554764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94DB-2AAF-4A08-9305-7F0B294F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5121-E1AA-469A-B330-8732072A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BB6A-FB52-43C0-8D65-F4212016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CI 5582 Fall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FEDD-272E-4F68-83EB-BBF6A9E83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cs.pitt.edu/~wiebe/courses/CS2710/lectures/elkanLecture.html" TargetMode="Externa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9F40-3A14-4DB8-BBFD-850017ADC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S 2710, ISSP 2160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apter 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ference in First-Order Logi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43A3-49E6-41E3-A358-0F8E337EB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Unification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 of finding all legal substitu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ey component of all FO inference algorithm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fy(p,q) = theta, where Subst(theta,p) == Subst(theta,q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Assuming all variables universally quantifi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CE62-D4B0-4557-83AE-05DED8926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tandardizing apart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X knows(john,X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X knows(X,elizabeth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se ought to unify, since john knows everyone, and everyone knows elizabeth.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name variables to avoid such name clashes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Not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all X p(X) == all Y p(Y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All X (p(X) ^ q(X)) == All X p(X) ^ All Y q(Y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5D4B-9014-4168-A725-13118DEB5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457200" y="388800"/>
            <a:ext cx="8001000" cy="47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 Unify (p, q, bdgs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 = disagreement(p, q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 If there is no disagreement, then succes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ot d: return bdg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if not isVar(d[0]) and not isVar(d[1]): return 'fail'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s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sVar(d[0]):  var = d[0] ; other = d[1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se:   var = d[1] ;   other = d[0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occursp (var,other):  return ‘fail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 Make appropriate substitutions and recurse on the resul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s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p = replaceAll(var,other,p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q = replaceAll(var,other,q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Unify (pp,qq, bdgs + [[var,other]]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613800" y="5257800"/>
            <a:ext cx="357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code, see “resources” on the web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C22D-B83B-4FE1-9BEC-333159DBB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228600" y="76320"/>
            <a:ext cx="746748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==============================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fy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'loves', ['dog', 'var_x'], ['dog', 'fred']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'loves', 'var_z', 'var_z'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s: [['var_z', ['dog', 'var_x']], ['var_x', 'fred']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ult: ['loves', ['dog', 'fred'], ['dog', 'fred']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==============================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fy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'loves', ['dog', 'fred'], 'fred'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'loves', 'var_x', 'var_y'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s: [['var_x', ['dog', 'fred']], ['var_y', 'fred']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ult: ['loves', ['dog', 'fred'], 'fred'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==============================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fy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'loves', ['dog', 'fred'], 'mary'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'loves', ['dog', 'var_x'], 'var_y'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s: [['var_x', 'fred'], ['var_y', 'mary']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ult: ['loves', ['dog', 'fred'], 'mary'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==============================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0024-9981-437B-A21F-1B68A1DFD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304920" y="212760"/>
            <a:ext cx="86104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if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'loves', ['dog', 'fred'], 'mary']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'loves', ['dog', 'var_x'], 'var_y']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s: [['var_x', 'fred'], ['var_y', 'mary']]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ult: ['loves', ['dog', 'fred'], 'mary']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==============================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if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'loves', ['dog', 'fred'], 'fred']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'loves', 'var_x', 'var_x']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u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==============================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if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'loves', ['dog', 'fred'], 'mary']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'loves', ['dog', 'var_x'], 'var_x'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u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==============================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if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'loves', 'var_x', 'fred']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'loves', ['dog', 'var_x'], 'fred']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r_x occurs in ['dog', 'var_x']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u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28C7-D813-432D-95FB-58B94DE92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1676520" y="60480"/>
            <a:ext cx="647676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if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'loves', 'var_x', ['dog', 'var_x']]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'loves', 'var_y', 'var_y']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r_y occurs in ['dog', 'var_y']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u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==============================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if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'loves', 'var_y', 'var_y']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'loves', 'var_x', ['dog', 'var_x']]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r_x occurs in ['dog', 'var_x']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u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==============================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ify:  (fails because vars not standardized apar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'hates', 'agatha', 'var_x']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'hates', 'var_x', ['f1', 'var_x']]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u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==============================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if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'hates', 'agatha', 'var_x']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'hates', 'var_y', ['f1', 'var_y']]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s: [['var_y', 'agatha'], ['var_x', ['f1', 'agatha']]]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ult: ['hates', 'agatha', ['f1', 'agatha']]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5F8A-02D2-4D2A-B78C-0C091CD7A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st General Unifier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Unify algorithm returns a MG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1 = p(X,f(Y),b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2 = p(X,f(b),b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ubst1 = {X\a, Y\b}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ult1 = p(a,f(b),b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ubst2 = {Y\b}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ult2 = p(X,f(b),b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bst1 is more restrictive than Subst2.  In fac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bst2 is a MGU of L1 and L2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51EF-19F9-40CE-9200-9199AC9E0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torage and retrieval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sh statements by predicate for quick retrieval  (predicate indexing), e.g., of all sentences that unify with 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tall(X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y attempt to unify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tall(X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silly(dog(Y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stea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Predicates[tall] = {all tall facts}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Unify(tall(X),s) for s in Predicates[tall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bsumption lattice for efficiency (see p. 329 for your interes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D5BE-C793-45A8-8B98-BA3E5EDF4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ference Method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fication (prerequisit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ward Chain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duction Syste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TE Method  (OP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ckward Chain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gic Programming (Prolog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olu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form to CN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neralization of Prop. Logic resolu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E54E-5EE3-4679-A4BE-0520C0944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solution Theorem Proving (FOL)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vert everything to CN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olve, with unific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ave bindings as you go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resolution is successful, proof succee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there was a variable in the item to prove, return variable’s value from unification bindin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6128-A006-40A4-A157-986EA11F7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ages to skim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orage and Retrieval (p. starts bottom 328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fficient forward chaining (starts p. 333) through Irrelevant facts (ends top 337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fficient implementation of logic programs (starts p. 340) through Constraint logic programming (ends p. 345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leteness of resolution (starts p. 350) (though see notes in slide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A55B-064A-46F0-94B2-0262995BB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nverting to CNF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3FC7-ED55-4168-8625-8D5DF9CD8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nverting sentences to CNF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Eliminate all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↔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onnectiv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↔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Q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((P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Q) ^ (Q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)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Eliminate all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onnectiv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Q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Q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 Reduce the scope of each negation symbol to a single predicat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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Q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Q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)P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)P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. Standardize variables: rename all variables so that each quantifier has its own unique variable na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C97A-D95C-455F-8550-981812A73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nverting sentences to clausal form: Skolem constants and function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. Eliminate existential quantification by introducing Skolem constants/functio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)P(x)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P(c)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c is a Skolem constant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(a brand-new constant symbol that is not used in any other sentenc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)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)P(x,y) becomes 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)P(x, F(x)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nc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within the scope of a universally quantified variable, use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Skolem function F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to construct a new value that </a:t>
            </a: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depends o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the universally quantified variab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 must be a brand-new function name not occurring in any other sentence in the KB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.g., 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)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)loves(x,y) becomes 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)loves(x,F(x))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this case, F(x) specifies the person that x lov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.g.,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1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2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3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 P(… y …) become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1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2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3 P(… FF(x1,x2,x3) …) (FF is a new nam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C310-9CA3-42D2-9042-DCCA0A90C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nverting sentences to clausal form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emove universal quantifiers by (1) moving them all to the left end; (2) making the scope of each the entire sentence; and (3) dropping the “prefix” par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: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)P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(x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7. Put into conjunctive normal form (conjunction of disjunctions) using distributive and associative law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Q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P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Q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Q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P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Q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8. Split conjuncts into separate clau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. Standardize variables so each clause contains only variable names that do not occur in any other clau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EEB0-B890-4F47-BB99-ED61A6E0A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n example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x)(P(x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(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y)(P(y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P(F(x,y))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y)(Q(x,y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P(y)))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Eliminat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)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)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(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(F(x,y))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)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(x,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(y)))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 Reduce scope of neg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)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)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(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(F(x,y))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)(Q(x,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(y)))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. Standardize variab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)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)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(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(F(x,y))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z)(Q(x,z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(z)))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. Eliminate existential quantific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)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)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(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(F(x,y))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Q(x,G(x)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(G(x))))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. Drop universal quantification symbo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(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(F(x,y))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Q(x,G(x)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(G(x))))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2487-987A-4E73-A166-051E2877D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n Example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. Convert to conjunction of disjunctio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(x)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(y)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P(F(x,y)))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(x)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Q(x,G(x)))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(x)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(G(x)))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8. Create separate claus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(x)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(y)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P(F(x,y))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(x)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Q(x,G(x))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(x)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(G(x))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. Standardize variabl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(x)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(y)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P(F(x,y))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(z)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Q(z,G(z))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(w)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(G(w)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te: Now that quantifiers are gone, we do need the upper/lower-case distinc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18AC-E5EC-4E94-A053-6742B4C82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609480" y="609480"/>
            <a:ext cx="82296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all X (read (X) --&gt; literate (X)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all X (dolphin (X) --&gt; ~literate 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exists X (dolphin (X) ^ intelligent 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translation of ``Some dolphins are intelligent''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``Are there some who are intelligent but cannot read?'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exists X (intelligent(X) ^ ~read 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of clauses (1-3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~read(X) v literate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~dolphin(Y) v ~literate(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a. dolphin 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b. intelligent 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gation of 4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(exists Z (intelligent(Z) ^ ~read (Z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Clausal 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intelligent(Z) v read(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olution proof:  in lec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E185-AD85-4111-823D-67CA5CE56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93480"/>
            <a:ext cx="7772400" cy="130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re complicated example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Comic Sans MS"/>
              </a:rPr>
              <a:t>Did Curiosity kill the cat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47640" y="1587240"/>
            <a:ext cx="784872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ack owns a dog. Every dog owner is an animal lover. No animal lover kills an animal. Either Jack or Curiosity killed the cat, who is named Tuna. Did Curiosity kill the cat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se can be represented as follow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.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) (Dog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wns(Jack,x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.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) ((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) (Dog(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wns(x, y))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imalLover(x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.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) (AnimalLover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) Animal(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ills(x,y)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. Kills(Jack,Tuna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Kills(Curiosity,Tun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 Cat(Tun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.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) (Cat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imal(x) 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. Kills(Curiosity, Tun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Line 4"/>
          <p:cNvSpPr/>
          <p:nvPr/>
        </p:nvSpPr>
        <p:spPr>
          <a:xfrm flipH="1">
            <a:off x="4038120" y="53341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6328080" y="510552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6B91-FC31-41E3-8CE0-B2C78135B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748800"/>
            <a:ext cx="7772400" cy="557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nvert to clause for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1. (Dog(D)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2. (Owns(Jack,D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.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g(y)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wns(x, y), AnimalLover(x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.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imalLover(a)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imal(b)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ills(a,b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. (Kills(Jack,Tuna), Kills(Curiosity,Tuna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 Cat(Tun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.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t(z), Animal(z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dd the negation of query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: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ills(Curiosity, Tuna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Line 3"/>
          <p:cNvSpPr/>
          <p:nvPr/>
        </p:nvSpPr>
        <p:spPr>
          <a:xfrm flipH="1">
            <a:off x="3352320" y="13716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5637240" y="1143000"/>
            <a:ext cx="29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is a skolem con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5D5D-BB4B-4183-B38B-4B3173F86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resolution refutation proof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1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, D, {}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Kills(Jack, Tuna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2: R1, C, {a/Jack, b/Tuna}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~AnimalLover(Jack),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~Animal(Tuna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3: R2, B, {x/Jack}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~Dog(y), ~Owns(Jack, y),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~Animal(Tuna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4: R3, A1, {y/D}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~Owns(Jack, D),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~Animal(Tuna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5: R4, A2, {}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~Animal(Tuna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6: R5, F, {z/Tuna}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~Cat(Tuna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7: R6, E, {}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D40C-8511-4DD1-B25B-183106EDC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ference with Quantifier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al Instantiation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ive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 (person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likes(X, sun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fer person(john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likes(john,sun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istential Instantiation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ive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 likes(x, chocolat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fer: likes(S1, chocolat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1 is a “Skolem Constant” that is not found anywhere else in the KB and refers to (one of) the individuals that likes su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5E84-4A5D-4621-B85F-87BEAE767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proof tre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984600" y="912960"/>
            <a:ext cx="49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2195640" y="911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3262320" y="1690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4176720" y="2286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5558040" y="29732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6402600" y="37353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7317000" y="4486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7774200" y="5348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1220040" y="169056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1: K(J,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1778760" y="2287440"/>
            <a:ext cx="206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2: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(J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2364480" y="297180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: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(y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(J,y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3362400" y="3733920"/>
            <a:ext cx="206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4: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(J,D)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5141160" y="4484520"/>
            <a:ext cx="11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5: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5915520" y="5346720"/>
            <a:ext cx="11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6: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6732360" y="6134040"/>
            <a:ext cx="12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7: FA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8"/>
          <p:cNvSpPr/>
          <p:nvPr/>
        </p:nvSpPr>
        <p:spPr>
          <a:xfrm>
            <a:off x="1295280" y="12952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19"/>
          <p:cNvSpPr/>
          <p:nvPr/>
        </p:nvSpPr>
        <p:spPr>
          <a:xfrm flipH="1">
            <a:off x="1980720" y="12952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20"/>
          <p:cNvSpPr/>
          <p:nvPr/>
        </p:nvSpPr>
        <p:spPr>
          <a:xfrm>
            <a:off x="2133720" y="205740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21"/>
          <p:cNvSpPr/>
          <p:nvPr/>
        </p:nvSpPr>
        <p:spPr>
          <a:xfrm flipH="1">
            <a:off x="2971800" y="2057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22"/>
          <p:cNvSpPr/>
          <p:nvPr/>
        </p:nvSpPr>
        <p:spPr>
          <a:xfrm>
            <a:off x="3276720" y="2666880"/>
            <a:ext cx="3045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23"/>
          <p:cNvSpPr/>
          <p:nvPr/>
        </p:nvSpPr>
        <p:spPr>
          <a:xfrm flipH="1">
            <a:off x="4114440" y="25909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24"/>
          <p:cNvSpPr/>
          <p:nvPr/>
        </p:nvSpPr>
        <p:spPr>
          <a:xfrm>
            <a:off x="3809880" y="335268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25"/>
          <p:cNvSpPr/>
          <p:nvPr/>
        </p:nvSpPr>
        <p:spPr>
          <a:xfrm flipH="1">
            <a:off x="4724280" y="327672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26"/>
          <p:cNvSpPr/>
          <p:nvPr/>
        </p:nvSpPr>
        <p:spPr>
          <a:xfrm>
            <a:off x="4876920" y="411480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27"/>
          <p:cNvSpPr/>
          <p:nvPr/>
        </p:nvSpPr>
        <p:spPr>
          <a:xfrm flipH="1">
            <a:off x="5943240" y="40384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28"/>
          <p:cNvSpPr/>
          <p:nvPr/>
        </p:nvSpPr>
        <p:spPr>
          <a:xfrm>
            <a:off x="5943600" y="480060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29"/>
          <p:cNvSpPr/>
          <p:nvPr/>
        </p:nvSpPr>
        <p:spPr>
          <a:xfrm flipH="1">
            <a:off x="6629040" y="487692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30"/>
          <p:cNvSpPr/>
          <p:nvPr/>
        </p:nvSpPr>
        <p:spPr>
          <a:xfrm>
            <a:off x="6477120" y="57150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31"/>
          <p:cNvSpPr/>
          <p:nvPr/>
        </p:nvSpPr>
        <p:spPr>
          <a:xfrm flipH="1">
            <a:off x="7543800" y="57150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2"/>
          <p:cNvSpPr/>
          <p:nvPr/>
        </p:nvSpPr>
        <p:spPr>
          <a:xfrm>
            <a:off x="1662120" y="1257480"/>
            <a:ext cx="4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3"/>
          <p:cNvSpPr/>
          <p:nvPr/>
        </p:nvSpPr>
        <p:spPr>
          <a:xfrm>
            <a:off x="2286360" y="19051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a/J,b/T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4"/>
          <p:cNvSpPr/>
          <p:nvPr/>
        </p:nvSpPr>
        <p:spPr>
          <a:xfrm>
            <a:off x="3490920" y="270504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x/J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5"/>
          <p:cNvSpPr/>
          <p:nvPr/>
        </p:nvSpPr>
        <p:spPr>
          <a:xfrm>
            <a:off x="4176720" y="3390840"/>
            <a:ext cx="7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y/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6"/>
          <p:cNvSpPr/>
          <p:nvPr/>
        </p:nvSpPr>
        <p:spPr>
          <a:xfrm>
            <a:off x="5472000" y="4152960"/>
            <a:ext cx="4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7"/>
          <p:cNvSpPr/>
          <p:nvPr/>
        </p:nvSpPr>
        <p:spPr>
          <a:xfrm>
            <a:off x="6309360" y="4991040"/>
            <a:ext cx="7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z/T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8"/>
          <p:cNvSpPr/>
          <p:nvPr/>
        </p:nvSpPr>
        <p:spPr>
          <a:xfrm>
            <a:off x="7224480" y="5753160"/>
            <a:ext cx="4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B50B-A692-44B3-A18B-A270D5BFA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cidability and Completenes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olution is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refutation comple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ference procedure for First-Order Logi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a set of sentences contains a contradiction, then a finite sequence of resolutions will prove thi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not, resolution may loop forever (“semi-decidable”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re are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notes by Charles Elkan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at go into this more deep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D3EB-80DF-457A-9AF0-CB2E9D073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cidability and Completenes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futation Completeness:  If KB |= A then KB |- 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it’s entailed, then there’s a proo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mi-decidable: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there’s a proof, we’ll halt with i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not, maybe halt, maybe no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ogical entailment in FOL is semi-decidable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if the desired conclusion follows from the premises, then eventually resolution refutation will find a contradic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A6FF-513E-4C77-A3FF-6B67810BE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cidability and Completenes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positional logi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gical entailment is decida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re exists a complete inference proced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rst-Order logi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gical entailment is semi-decida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olution procedure is refutation comple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E49C-1155-4D5B-BD4B-6ECA5B45A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rategies (heuristics) for efficient resolution inclu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t preference.  If a clause has only one literal, use it fir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of support.  Identify “useful” rules and ignore the rest. (p. 305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put resolution.  Intermediately generated sentences can only be combined with original inputs or original rule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sumption.  Prune unnecessary facts from the databas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8EC8-C86F-4297-B1E6-5F29FFB96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Horn Clause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Horn Clause is a CNF clause with at most one positive liter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rn Clauses form the basis of forward and backward chain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Prolog language is based on Horn Clau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ciding entailment with Horn Clauses is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linear in the size of the knowledge ba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B052-D141-4214-9FF6-1EB5001C1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asoning with Horn Clause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ward Chain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each new piece of data, generate all new facts, until the desired fact is genera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-directed reason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ckward Chain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prove the goal, find a clause that contains the goal as its head, and prove the body recursive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oal-directed reason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state space is an AND-OR graph; see 7.5.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6A91-1B06-48EE-A9FD-3A8008626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orward Chaining over FO Definite (Horn) Clause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uses (disjunctions) with at most one positive liter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rst-order literals can include variables, which are assumed to be universally quantifi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GMP to perform forward chain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Semi-decidable as for full FOPC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D8B2-0367-4F92-9506-B37F7DC5C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633960" y="193680"/>
            <a:ext cx="69379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 FOL-FC-Ask(KB,A) returns subst or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B:  set of FO definite clauses with variables standardized a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:  the query, an atomic sent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 until new is emp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{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implication (p1 ^ … ^ p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q) in KB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T such that SUBST(T,p1^…^pn)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T(T,p1’^…^pn’) for some p1’,…,pn’ in K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’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UBST(T,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q’ is not a renaming of a sentence already in KB or new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q’ to 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nify(q’,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S is not fail then return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new to K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599760" y="5181480"/>
            <a:ext cx="83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cess can be made more efficient; read on your own, for inte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C273-8568-4E94-B563-081AF8A8F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ackward Chaining over Definite (Horn) Clause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gic programm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log is most popular for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pth-first search, so space requirements are lower, but suffers from problems from repeated sta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B103-1024-4479-9581-3692B7AA0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uction to Propositional Inference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mple form (pp. 324-325) not efficient.  Useful conceptuall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place each universally quantified sentence by all possible instanti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X (man(X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ortal(X)) 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replaced b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n(tom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ortal(to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n(chocolate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ortal(chocolate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w, we have propositional logic.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propositional reasoning algorithms from Ch 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9A44-4F86-4796-88E8-6C57494AA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519840" y="4862520"/>
            <a:ext cx="3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140760" y="270000"/>
            <a:ext cx="8690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erican(X) ^ weapon(Y) ^ sells(X,Y,Z) ^ hostile(Z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riminal(X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ns(nono,m1).  missile(m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ile(X1) ^ owns(nono,X1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lls(west,X1,non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ile(X2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eapon(X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my(X3,america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ostile(X3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erican(wes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my(nono,americ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 criminal(west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ward chaining proof:  in l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olo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minal(X) :- american(X), weapon(Y), sells(X,Y,Z), hostile(Z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4C3C-8FD6-47F9-AC9C-BD6F5357C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914400" y="152280"/>
            <a:ext cx="8001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rn clauses are all of the form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1 ^ L2 ^ ... ^ Ln -&gt; Ln+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, equivalently, in clausal 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L1 v ~L2 v ... v ~Ln v Ln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log (like databases) makes the "closed world assumption"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P cannot be proved, infer not 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nk of the system as an arrogant know-it-al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If it were true, I would know it.  Since I can't pr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, it must not be tru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us, it uses "negation as failure"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CF83-9130-43A8-A5AE-9F1E49AB1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609480" y="892080"/>
            <a:ext cx="81536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ghbor(canada,u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ghbor(mexico,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ghbor(pakistan,indi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- neighbor(canada,india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full first-order logic, you would have to be able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er “~neighbor(canada,india)"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neighbor(canada,india)" to be fals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careful!  “~neighbor(canada,india) is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ot entail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y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tences abov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7386-9088-4A81-9F09-2864D2A5F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762120" y="289080"/>
            <a:ext cx="79246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helor(X) :- male(X), \+ married(X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le(bil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le(jim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ried(bil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ried(mary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individual is a bachelor if it is male and it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married. \+ is the negation-as-failure operator in Prolo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 ?- bachelor(bill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 ?- bachelor(jim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 ?- bachelor(mar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 ?- bachelor(X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= ji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 ?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17DF-C1C5-4745-BD62-402BA4272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Comparing backward chaining in prolog with resolution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[In lecture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5E78-575F-4ADE-A050-E9244EAE4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WrapUp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 are responsible for everything in Chapter 9 except the following (though you are encouraged to read them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age and Retrieval (p. starts bottom 328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fficient forward chaining (starts p. 333) through Irrelevant facts (ends top 337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fficient implementation of logic programs (starts p. 340) through Constraint logic programming (ends p. 345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mpleteness of resolution (starts p. 350) (though see notes in slide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so, see files posted on the schedule (clausal form conversion, resolution, etc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9C0B-F5C0-4078-9582-B77D90D29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uction to Propositional Inference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blem:  when the KB includes a function symbol, the set of term substitutions is infinite.  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father(father(father(tom)))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rbrand 1930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f a sentence is entailed by the original FO KB, then there is a proof using a finite subset of the propositionalized K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nce any subset has a maximum depth of nesting in terms,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we can find the subse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by generating all instantiations with constant symbols, then all with depth 1, and so 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FCFA-8D44-48A3-8E4E-5F18DE160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irst-Order Inference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 have an approach to FO inference via propositionalization that is complete:  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any entailed sentence can be prov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ntailment for FOPC is semi-decidabl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algorithms exist that say yes to every entailed sentence, but no algorithm exists that also says no to every nonentailed sentenc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Our proof procedure could go on and on, generating more and more deeply nested terms, but we will not know whether it is stuck in a loop, or whether the proof is just about to pop ou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A13D-F2A8-4B41-9539-B4EAE93DB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Generalized Modus Ponen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is a general inference rule for FOPC that does not require universal instantiation  fir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Given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1’, p2’ … pn’,  (p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… pn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st(theta, pi’) = subst(theta, pi) for all 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onclud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bst(theta, q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5C9C-813A-40EF-9D00-DE19FC6FB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GMP is a lifted version of MP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MP “lifts” MP from 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propositiona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o 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first-ord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logi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ey advantage of lifted inference rules over propositionalization is that they 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make only substitutions which are require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o allow particular inferences to proce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6A70-330D-44C0-B219-EB436DD9C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GMP Example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,y,z ((parent(x,y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arent(y,z)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grandparent(x,z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parent(james, john), parent(james, richard), parent(harry, jame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 can deriv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randparent(harry, john), binding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{x/harry,y/james,z/john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randparent(harry, richard), binding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{x/harry,y/james,z/richard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9T13:04:01Z</dcterms:created>
  <dc:creator>James Martin</dc:creator>
  <dc:description/>
  <dc:language>en-US</dc:language>
  <cp:lastModifiedBy>Janyce Wiebe</cp:lastModifiedBy>
  <cp:lastPrinted>2011-10-12T14:40:40Z</cp:lastPrinted>
  <dcterms:modified xsi:type="dcterms:W3CDTF">2013-10-09T16:45:50Z</dcterms:modified>
  <cp:revision>110</cp:revision>
  <dc:subject/>
  <dc:title>CSCI 5582 Artificial Intelligence</dc:title>
</cp:coreProperties>
</file>