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D91-AF10-411C-9612-6B3F1063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3678-DAA1-4C4F-8A21-48B8432E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C7B5E-A00F-43A2-8F5A-7101F805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EF75C-F302-43CB-BAB2-543928B5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65ECA-6F4D-461A-8E0F-6F29C2A6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2FBC3-E7B6-4B3C-AD56-0936C795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474C6-FB80-4368-90A4-5A6D525E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22310-E62E-4B6B-BF2A-D87AFC2D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EF58C-5F7D-466C-84E1-4AAEB239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04C81-70B9-422A-BEB3-6501E87E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2EB7E-76FA-448C-A3C8-0A8FB4CE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A3B47-9B23-40F4-AAED-303B07C9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A04-00FD-4CA0-AC5F-B6C8224A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BAFEE-2FAE-48AF-9A14-38EED184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0A160-9692-474C-83AD-3630DCF8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5A423-16B9-483C-B369-C4ABC3B1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998B9-9135-4FCD-8A22-F8AC1E34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160FD-819E-4026-A645-BA79E56E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9F706-B4A9-4011-BB8E-56673F8C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3073E-867C-422E-919B-88FB47B8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1737A-147F-42C3-BA44-BAE7F8F9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15EC8-1D27-4400-9254-874FDF83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90756-41EF-4A47-8088-7BC69787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759-0DE8-4E10-9785-F4B34115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C5731-4A8D-426F-9E6E-6ADAA217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C9157-7599-4166-BC2B-13ED57BC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BF20C-81BF-4E11-BB5A-9D885581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D29A6-24EE-4564-BF67-231BF57F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E0BA5-E949-4039-A470-807B57C6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9A58B-F558-414C-A201-46EB9B10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18FD0-CED5-4D67-8BE4-DA00F7DA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944C3-D4E5-464C-9990-8B0A2D47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D2451-6663-4FBC-A4CB-53DF60F2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44CC4-1AA5-45E8-BBD3-63A6D333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7E8A-5141-4D4C-85DB-D98FF699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486ED-99EF-427D-9CDA-01931D21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06248-4924-4F7B-9C59-661F165C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3F1E7-5A96-4219-A78A-0704328E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08960-810D-40C0-BFBB-C9B8980A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6BEAB-BD95-4FE4-913A-F01A71B4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774CB-E409-46E8-83BA-A953475E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16BB0-8288-48E7-B711-A75488CB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21BB9-6326-4AB5-A788-62823835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8AFC9-5E07-4B83-B9CD-FFEA3FD8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6D9B5-E58C-44FF-98D6-426B9193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CACC-3925-4260-B706-6BE68577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E58FC-2F65-43F6-BE81-96F6261F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DA109-2D3E-486A-A71F-29AA3682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19CDB-99D2-4EB8-B3D1-EBD7EF69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B41D3-EFB8-44F0-8862-C0A13EF1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95C8E-7FFA-4D96-8839-2DCA3059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C187-3458-4973-AFA2-4C076148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BBA1-4775-4660-BD2D-55D76E0D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4360-5871-4856-A083-7AEA1F26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39DB-C3EC-4CF0-981F-DB0A8578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1241-4166-40C7-A1DB-74F92D57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251A-B1DF-4326-B3A6-12B2A875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FDEC-98E1-43E0-8FFA-EF3D0056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2A53-8114-443F-8BEB-72A275ED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1051-6CD6-4CFF-835E-27D70501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9CD0-DE1A-40EE-B906-39AFDFD9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3064-24F6-4CE5-B8B1-46988FBA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4265C-86C3-4730-8BDB-7C3B43DD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727C9-8EAD-44A1-B646-0C072040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66A96-8C02-4BCA-9A29-38C74C1F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73EBA-FCC2-4D9F-A8DF-47B31AB6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A6086-F308-464C-8730-D6209B12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FAC-7DD5-4323-8508-84D668C4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5356E-08F0-4B0D-B286-782AECEF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6DF19-A5A4-4581-83BE-E2A5FABC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A11AE-DD4F-4654-8334-3611371E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479DD-D284-4237-8B2B-73065019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DB245-D13C-4017-9A0F-033FE76C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C0BBA-11D6-424A-BC47-369D8FD3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2FCFE-1503-4480-82CD-BF838D82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521F9-A4A1-4919-A251-1984492C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61A66-ABEC-4F08-A3CB-21C23875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4BADC-3965-4F42-98FA-4BD1915E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F67-3009-4081-8631-920FD314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2B642-8DE0-463B-8891-E162CA0F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72F2E-CF28-4B12-8E62-CFFA420A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8BFF6-77FB-4B4E-80E3-42FDD224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D1B6C-44CD-4842-A709-BB4A7D93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2EF1D-7210-45C1-A7AC-BD00A83B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D701E-6B68-40DA-A0C1-EADC3042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4DC49-6EE1-44AF-B990-C54F9FBD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3248A-7858-4258-A3DF-C5BADCEA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C1710-BD3F-44AD-BEB8-DFE706AD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F64E2-C8A7-4291-9FDB-4ADFA1B9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91A-646A-4BB0-BD88-73D3E06B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F7F94-ECD6-4EB5-AB69-CFA83497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74EC8-8F31-4739-8B6F-A06BA9F3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B96D3-DE83-4EE2-9A5C-18506666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ACEC7-209D-4F30-A360-08EC655F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12644-5980-467C-B5A0-3203AC2D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8E7E6-254C-4431-B7F1-0B725FA8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1D8F0-0975-4841-B39D-63826FAA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82468-8DDF-4FF3-881F-565940F7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33378-E8EC-408A-AFB1-7A2392DE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5907C-249E-4AE7-AD3E-9985075E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9E4A-8657-4913-B8CA-702C053A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501A7-B2A3-4E33-B6CA-AC45D5AB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54949-AFA8-46D0-9078-05244468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74619-A2AE-47BC-97B1-FFC49098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2D456-0491-41C2-8CA6-69A47FDB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34961-BA87-447D-B562-C7AC4AF4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50D59-BE3D-4B53-93AA-BF683447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0DDC8-F366-461F-8F76-BED848AF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A796A-DB12-4696-9EA0-2EC751C1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ECEE1-8423-4D79-A0CA-88CCF8BC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DA944-1200-40F7-95AC-534496E7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514A-B219-40EC-8C2E-C12F3901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A8978-B95F-4E28-BAD9-6457E9D6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114CA-805F-4063-8C07-52CB0215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26D4C-11A0-4C82-AD7D-5C1F55EA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F8C76-708B-4D5B-9AA7-7EB8DD7A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E53FF-6A50-4F53-B4A9-72B80CFD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62872-721A-47D2-BCB1-DC5E8C32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6D61F-E24D-48CF-B023-29137CD0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192CD-7D03-4099-B384-1DE4288C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01FB5-092A-4F41-AFE6-51AB5E1C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68C92-122C-44C5-8D0D-72CE3899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AFDA-35EA-4B98-A14E-BDC901CB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045FE-C151-4628-9199-17EF7EC3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2F17D-7A2C-4FD4-B6BB-1054F851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C595B-D150-4BF9-A242-DD0B753E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A2766-66A8-4799-BE23-BF8FC034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AC124-3700-4403-B37B-6E3C0759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0CCD6-3597-43DF-AC12-3330E709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71C3D-D4F6-409A-953C-58B93299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EEE7F-6798-46E1-A3AB-9821609D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D5D73-5884-4D31-9E9C-497D4EBE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BB283-EA52-4EFB-B8AB-C9721D74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E18D-B694-4E2C-825C-72D32B70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56DAD-DEFD-4CF6-B199-B834F379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BB7DF-F68E-4B6E-88F7-1174D322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ED408-BA7A-425C-BF9F-8D609D16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BEB92-B502-42AB-B5BE-9E755C56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191D8-7C55-41D3-9AC3-C842A5C2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0BAAE-60CA-4A61-9C44-7F8E5EC8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A0D02-1512-4FFA-8163-07823F06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1C8F5-A2EE-4224-9551-44F8AC8F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984BA-B0FB-4EFB-B960-107A76B2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8CA3A-F6A9-416E-B2B6-846802D7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E4FA-6887-42AA-A942-8EBC8F583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CA0C-7547-4A0C-A186-43CF7B5C8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6B9C-914E-4AE8-BDEC-C7AFE8FA4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4E6D-7032-43AC-8FA3-77D5C84D8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9A10-231B-4A88-B608-39CD2C44C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EF79-9A21-475F-B0A5-6021A0418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7D10-54D7-49C8-AE67-A7C0C7A83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E487-21A0-494D-B2F8-CBE6E5757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865D-C33D-4F7A-8DBE-BA589BF25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ABA7-2C2C-4A50-AF4B-C99094F33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23FC-CB6E-44D9-8EB5-3235C3FDA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422B-3DAA-4377-8DC7-88251E728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8C3E-0F6D-469B-A8EA-AED895F6B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S 2710, ISSP 2610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pter 8, Part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rst Order Predicate Calculu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OP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9E5D-9214-4AF8-A156-C700A4E75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uantification and Negatio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(all X p(X))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equiv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ists X ~p(X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(exists X p(X))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equi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ll X ~p(X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4830-CC5B-4D86-A922-366F2E0DD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sting of Variable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eryone likes some kind of foo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re is a kind of food that everyone lik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one likes all kinds of foo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ery food has someone who likes 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1005840" y="1447920"/>
            <a:ext cx="597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ut quantifiers in front of  </a:t>
            </a:r>
            <a:r>
              <a:rPr b="0" i="1" lang="en-US" sz="2000" spc="-1" strike="noStrike">
                <a:solidFill>
                  <a:srgbClr val="a50021"/>
                </a:solidFill>
                <a:latin typeface="Times New Roman"/>
              </a:rPr>
              <a:t>likes(P,F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ssume the domain of discourse of P is the set of peo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ssume the domain of discourse of F is the set of f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3389-B7F4-4D23-ADBD-34106C748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swers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DOD of P is people and F is food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eryone likes some kind of foo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All P Exists F likes(P,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re is a kind of food that everyone lik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Exists F All P likes(P,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one likes all kinds of foo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Exists P All F likes(P,F)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ery food has someone who likes 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All F Exists P likes(P,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A8C3-3CCB-45E5-92C6-B45880753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ll Answers </a:t>
            </a:r>
            <a:br>
              <a:rPr sz="2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without Domain of Discourse Assumptions)</a:t>
            </a:r>
            <a:br>
              <a:rPr sz="4000"/>
            </a:b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ryone likes some kind of foo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All P (person(P) </a:t>
            </a:r>
            <a:r>
              <a:rPr b="0" lang="en-US" sz="16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Exists F (food(F) and likes(P,F))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re is a kind of food that everyone lik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Exists F (food(F) and (All P (person(P) </a:t>
            </a:r>
            <a:r>
              <a:rPr b="0" lang="en-US" sz="16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likes(P,F)))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meone likes all kinds of foo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Exists P (person(P) and (All F (food(F) </a:t>
            </a:r>
            <a:r>
              <a:rPr b="0" lang="en-US" sz="16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likes(P,F)))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ry food has someone who likes 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All F (food (F) </a:t>
            </a:r>
            <a:r>
              <a:rPr b="0" lang="en-US" sz="16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Exists P (person(P) and likes(P,F))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747C-81AF-4B68-A723-B2EDAA3D7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mantics of FOPC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Interpreta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assignment of elements from the world to elements of the langu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world consists of a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domain o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objects D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 set of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predicates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a set of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2D5C-EE5E-46B7-B346-0B2CB3177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mantic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constant is assigned an element of the doma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N-ary predicat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is assigned a set of N-tuples [which are?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N-ary funct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symbol is assigned a set of N+1 tuples that does not include any pair of tuples that have the first N elements but different (n+1)st elem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0900-3898-41A5-974D-B8D37ABCA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sitional Logic to FOPC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1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P12 v P21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2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P32 v P 23 v P34 v P 43) 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Internal squares adjacent to pits are breezy”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X Y (B(X,Y) ^ (X &gt; 1) ^ (Y &gt; 1) ^ (Y &lt; 4) ^ (X &lt; 4)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P(X-1,Y) v P(X,Y-1) v P(X+1,Y) v (X,Y+1)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0DD0-6B4F-44BE-9394-66854F276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PC World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ther than just T,F, now worlds contain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Objects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the gold, the wumpus, people, ideas, … </a:t>
            </a:r>
            <a:r>
              <a:rPr b="0" lang="en-US" sz="1800" spc="-1" strike="noStrike">
                <a:solidFill>
                  <a:srgbClr val="00cc99"/>
                </a:solidFill>
                <a:latin typeface="Comic Sans MS"/>
              </a:rPr>
              <a:t>“the domain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Predicates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holding, breezy, red, sist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Functions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atherOf, colorOf, pl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Ontological commit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4AB1-BBA4-47C9-918F-38E7AB8C0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PC Syntax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d variables and quantifiers to propositional log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0F76-EFF3-4F99-BACF-B6803F0B4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1548360" y="457200"/>
            <a:ext cx="75186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ence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tomicSentence | ComplexSen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omicSentence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redicate(Term,…) | Term =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rm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unction(Term,…) |Constant |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xSentence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Sentence) | ~Sentence | Sentence ^ Sentence | Sentence v Sentence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ence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entence | Sentence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entence| Quantifier Variable, … Sen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antifier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ll, ex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an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john, 1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, B, C,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dicate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reezy, sunny,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atherOf, p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324000" y="3352680"/>
            <a:ext cx="50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Knowledge engineering involves devising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nstants, predicates, and functions for your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E684-B554-4107-9CE7-575E3E27F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mple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ryone likes chocola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 (person(X)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likes(X, chocolate)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meone likes chocola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 (person(X) ^ likes(X, chocolate)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eryone likes chocolate unless they are allergic to 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 (person(X)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(likes(X, chocolate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ergic(X, chocolate))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 ((person(X) ^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ergic (X, chocolate))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kes(X, chocolate)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[Messy sentence on board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6069-9FEC-414C-9271-35BCFA206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uantifier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X p(X) means that p holds for all elements in the doma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ists X p(X) means that p holds for at least one element of the doma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FF42-554A-433B-9A56-6D72ECD95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ll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ually used with im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All X (student(X,CS2710) </a:t>
            </a:r>
            <a:r>
              <a:rPr b="0" lang="en-US" sz="18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smart(X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 usually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All X (student(X,CS2710) ^ smart(X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8CED-55B8-43D8-B5FF-A22354424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ist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ually used with ^ to specify information about individual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Exists X (student(X,CS2710) ^ smart (X) ^ speaks(X,klingon)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T usually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Exists X (student(X,CS2710) </a:t>
            </a:r>
            <a:r>
              <a:rPr b="0" lang="en-US" sz="16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(smart(X) ^ speaks(X,klingon))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[Very weak statement! 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21:35:05Z</dcterms:created>
  <dc:creator>James Martin</dc:creator>
  <dc:description/>
  <dc:language>en-US</dc:language>
  <cp:lastModifiedBy>Janyce Wiebe</cp:lastModifiedBy>
  <cp:lastPrinted>2012-09-28T22:12:24Z</cp:lastPrinted>
  <dcterms:modified xsi:type="dcterms:W3CDTF">2012-09-28T22:14:24Z</dcterms:modified>
  <cp:revision>104</cp:revision>
  <dc:subject/>
  <dc:title>CSCI 5582 Artificial Intelligence</dc:title>
</cp:coreProperties>
</file>