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0D6-6D80-420D-8A49-F652FA9C5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3EC-4152-4AEE-A00B-1F746134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ping 7.6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695-19BB-410B-94E7-085B5CD8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3AC-4FC4-4967-B586-F78B11D8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4AD-6FD9-4F12-A620-3051B233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0AF-7AEF-47A5-AA9D-5A9024C0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8BA-09E5-4407-B539-A986FE9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EB3-5467-4F7E-BE8A-FBFFEB83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65C-8279-4C1E-BDB7-1083FED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518-D944-435A-AF7B-C01754E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B84-32AF-4775-AE5D-8DB3DE1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582-7D4A-4AB5-B91F-36A20F0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68F-72E8-4916-BF88-9BFE769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B95-D3A1-43DF-9ED3-0E8D619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F621-A1E4-4F13-BBCF-949791F3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917-876B-41EB-A59D-551FE167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S 2710, ISSP 261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pter 7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positional Log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3E2-7364-4199-8146-1153E6C3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undamental Concepts of logical representation and reasoning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ormation is represented i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sentences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which must have correct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1 + 2 ) * 7 = 21 vs.  2 ) + 7 = * ( 1 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mantic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a sentence defines its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ru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with respect to each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ossible world – an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terpretation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ssigning T or F to all proposi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a model of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eans that sentenc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rue under interpretation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What do the following mean?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|=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entails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 logically follows from 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B37-DDC1-4440-B679-CA1A0A343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Which are tru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ch are not true but useful?</a:t>
            </a:r>
            <a:endParaRPr b="0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Man, Ma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ortal} |= Mort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Raining,Dog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ammal} |= Mamm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Raining,Raining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Wet} |= W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Smoke, Fir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Smoke} |= Fi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Tall ^ Silly} |= Ta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Tall v Silly}  |= Sil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Tall, Silly} |= Tall ^ Sil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Wumpus world EG illustrating possible worlds and entailment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313-9750-4A21-851E-7382F300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tailment (reminder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|=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Under all interpretations in which A is true, B is true as w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ll models of A are model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ever A is true, B is true as w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 entails 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logically follows from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D0D-200F-4FA5-92AE-A8F742CB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erenc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B |-i A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Inference algorithm i can derive A from K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 can be inferred from KB using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AF18-0B33-4CDA-8BED-816486ECB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Algorithm Exampl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,B} |-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(^intro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^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, A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} |-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(MP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, B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} |-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(abduction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 says P|-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(gullibility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essor says P |-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(trust in authority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B9BC-531D-443B-9931-FE64E86C8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ference Algorithm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implication, piece of synta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|=     entailment, used to describe semanti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|-      can be derived from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ference algorithm, inference procedure, rule of inference, inference rule: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rocedure that derives sentences from senten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Definition of soundness of inference algorithm i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Definition of completeness of inference algorithm i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Comic Sans MS"/>
              </a:rPr>
              <a:t>* Though it can mean different things in different math/logic contexts; see “turnstile” in Wikiped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E8B-9240-41D7-B872-7D56CFB7E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notonic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A logic is monotonic if…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F98-C6FE-4058-94CA-BCE6002B5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sitional Logic Syntax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tence -&gt; AtomicSent | complexS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tomicSent -&gt; true|false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P, Q, R …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Sent -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|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entence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[no predicate or function symbols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0BF-9AEA-4978-BF23-59B89C14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sitional Logic Sentenc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there is a pit at [1,1], there is a breeze at [1,0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is a breeze at [2,2], if and only if there is a pit in the neighborhoo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is no breeze at [2,2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6BF-E1BC-4DE8-9A45-FD9D18F0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mantics of Prop Logi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In model-theoretic semantic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an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interpret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ssigns elements of the world to sentences, and defines the truth values of senten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positional logic:  easy! Assign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each proposition symbol;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n assign truth values to complex sentences in the obvious w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3DB-1BF6-4A82-98A7-65402453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nowledge Based Agent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al component: 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knowledge bas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K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set of sentences in a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knowledge representation langu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ic Fun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LL   (add a fact to the knowledge bas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K (get next action based on info in K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Inference?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771-94DA-4663-9C2B-E94A58EC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gical Equivalenc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tences A and B are logically equivalent if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y are true under exactly the same interpre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|= B and B |=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19E4-30BA-41BD-BC13-585F4964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alid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sentence (or set of sentences) is valid if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 is true  under all interpre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: P v ~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BB30-04BA-4CBD-8CE7-45BBD280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tisfiabilit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sentence (or set of sentences) is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atisfiabl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 there exists some interpretation that makes it tr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 interpretation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atisfi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set of sentences if it makes them tr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197A-259F-4028-8CEE-C47BB50DD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tailmen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|=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ll interpretations that satisfy A also satisfy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BC5-EDAE-4A1B-9707-E3D8B2EF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sitional Logic Inferenc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Question:  Does KB entail 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hod 1:  Truth Table Entail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hod 2: Proo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of by deduction, induction, contradiction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C56D-CCCC-44EC-8423-9B3B4DA54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990720"/>
          <a:ext cx="5486400" cy="508932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762120"/>
                <a:gridCol w="1066680"/>
                <a:gridCol w="1067040"/>
                <a:gridCol w="1295280"/>
              </a:tblGrid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75"/>
          <p:cNvSpPr/>
          <p:nvPr/>
        </p:nvSpPr>
        <p:spPr>
          <a:xfrm>
            <a:off x="6781680" y="4191120"/>
            <a:ext cx="1676520" cy="1557000"/>
          </a:xfrm>
          <a:prstGeom prst="rect">
            <a:avLst/>
          </a:prstGeom>
          <a:solidFill>
            <a:srgbClr val="eef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En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705720" y="2057400"/>
            <a:ext cx="167616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^C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en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D55-C4FF-47C3-8ADA-D51670F8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 Proof by Deduc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: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u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eren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: (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)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(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 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1,bi eli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  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3, and eli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5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) S4,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ntrap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6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2,S5, M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7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6, DeMor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113-E75B-4C96-AFC2-1E5B48DD4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of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deriv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sequence of applications of rules of in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oning by sear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ccessor function:  all possible applications of inference ru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notonicity means search can be local, and more effici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F9CE-7AD4-4C7E-9FE8-3F745AF4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tion allows a complete inference mechanism (search-based) using only one rule of in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835-7AED-42F1-92E6-1E57A0C31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nter v summ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~winter v c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ither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int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~wint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rue, so we know that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umm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tr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tion rul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ven: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  …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 …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lude: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  …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 …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lementary literals 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1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nd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1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“cancel out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’re all familiar with logic from mathemati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AI, we need to think about things we usually take for gran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use the notion of prime number, you don’t have to think about what </a:t>
            </a:r>
            <a:r>
              <a:rPr b="0" lang="en-US" sz="1600" spc="-1" strike="noStrike">
                <a:solidFill>
                  <a:srgbClr val="00664d"/>
                </a:solidFill>
                <a:latin typeface="Comic Sans MS"/>
              </a:rPr>
              <a:t>prim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eans … or </a:t>
            </a:r>
            <a:r>
              <a:rPr b="0" lang="en-US" sz="1600" spc="-1" strike="noStrike">
                <a:solidFill>
                  <a:srgbClr val="00664d"/>
                </a:solidFill>
                <a:latin typeface="Comic Sans MS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for that mat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8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00"/>
                </a:solidFill>
                <a:latin typeface="Comic Sans MS"/>
              </a:rPr>
              <a:t>In AI, we create knowledge representation schemes, which define the objects, predicates, and functions which exi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721-F48B-4057-A3A0-78852FF8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F8B-65B7-455A-A0F8-D9A946DB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 in Wumpus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is a pit at 2,1 or 2,3 or 1,2 or 3,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 is no pit at 2,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refore (by resolution) the pit must be at 2,3 or 1,2 or 3,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70A-E584-4DAB-8E98-F82DE056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y complete search algorithm, applying only the resolution rule, can derive any conclusion entailed by any KB in propositional logi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55F-EF66-43E0-BE4D-70C3A7085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of using Resolutio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try to prove P from KB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rt KB and P into CN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 prove P, prove KB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 is contradictory (empty claus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pecifically, apply resolution using a complete search algorithm unti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ew clauses can be added, (KB does not entail 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empty clause is derived (KB does entail P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614-966B-46EB-96AB-E6287C86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(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3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2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version to CNF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iminat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eplacing with two im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place implication (A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) by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v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“inwards” (unnecessary parens remove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  Distributive La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D46-1EA2-422F-AA89-D4454DA66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evious Slide:  Sentence is in CNF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 step (with simpler example)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P1 v P2 v ~P3) ^ P4 ^ ~P5 ^ (P2 v P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a separate clause corresponding to each conjun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1 v P2 v ~P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~P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2 v P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B6B-F5F0-46B8-BE03-0B1AEFDC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ally…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 the negation of the goal to the set of clauses, and perform resolution.  If you reach the empty clause, you have proved the go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683-501E-4418-BE88-6442C5F89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mple Resolution EG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agent is in 1,1, there is no breeze, so there can be no pits in neighboring squ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1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P12 v P21)); ~B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e:  ~P12. [lecture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What if P and ~P are both in the KB?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1AF-E10C-49FE-A97C-56D38BE82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rn Claus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Horn Clause is a CNF clause with at most one positive liter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rn Clauses form the basis of forward and backward chai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Prolog language is based on Horn Clau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iding entailment with Horn Clauses i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linear in the size of the knowledge 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76AD-9FA6-4891-B1FF-FEB1C18F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asoning with Horn Clause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ward Chai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each new piece of data, generate all new facts, until the desired fact is genera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-directed reas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ward Chai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prove the goal, find a clause that contains the goal as its head, and prove the body recursive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al-directed reaso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e space is an AND-OR graph; see 7.5.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rap-up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 are responsible for everything in Chapter 7 through 7.6-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e:  we didn’t cover 7.5.4 or 7.6 in le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will return to topics in 7.7 when we cover plann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94B-B63D-4DB2-AE69-BD995E885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607-39AA-4B96-8589-8676B8EA8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Wumpus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 is played in a MxN gri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e player, one wumpus, one or more p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wumpus eats anyone who enters its ro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it traps anyone who moves into its ro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7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Comic Sans MS"/>
              </a:rPr>
              <a:t>(The wumpus can be shot by an agent, but the agent has only one arrow; this and some other details won’t come up in these not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yer starts in 0,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ward, turn left, turn righ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player tries to move forward and bumps into a wall, the player does not mo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yer can grab the gold if they are in the same ro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al:  find gold while avoiding wumpus and p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sor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sensors, each which gives one bit of inform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nch (if wumpus and player in adjacent, not diagonal, squar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eeze (if a pit and player in adjacent squar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itter (if gold and player in the same roo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mp (when the agent walks into a wal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ream (when wumpus is killed; sound can be perceived everywhe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cepts: 5-tup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stench, breeze, glitter, bump, scream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05DE-49A6-47DB-B2BE-05AEB3698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vironment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crete, static, single-agent (wumpus doesn’t mov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quential (player’s decisions can affect future on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ally observable (locations of pits and wumpus are unobservab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FED-2DB2-4273-86A7-AD6F96012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FFF3-9A4E-457C-9C15-6BA77DAD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762120"/>
          <a:ext cx="7772400" cy="4140000"/>
        </p:xfrm>
        <a:graphic>
          <a:graphicData uri="http://schemas.openxmlformats.org/drawingml/2006/table">
            <a:tbl>
              <a:tblPr/>
              <a:tblGrid>
                <a:gridCol w="1841400"/>
                <a:gridCol w="1839960"/>
                <a:gridCol w="1882800"/>
                <a:gridCol w="220824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Wumpu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i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gold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nch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star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Pi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e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5"/>
          <p:cNvSpPr/>
          <p:nvPr/>
        </p:nvSpPr>
        <p:spPr>
          <a:xfrm>
            <a:off x="306000" y="50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1525680" y="5715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7709-871F-4582-98AE-198DEFBD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umpu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n difficulty:  player doesn’t know locations of pits, gold, and wump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on about config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nowledge evolves as new percepts arrive and actions are take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F3D-9A71-479B-8DD0-9EB03EC2E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s of reasoning [diagram in lecture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yer starts in (0,0).   No stench or breeze.  So, no pit or wumpus in (1,0) or (0,1).  Player still alive, so no pit or wumpus in (0,0).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layer moves to (1,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eeze in (1,0). So, there must be a pit in (0,0), (2,0) or (1,1).  Player already ruled out (0,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nce there is danger in moving to (2,0) and (1,1),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layer moves back to (0,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layer moves to (0,1).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positive percepts._x000e_ Now player knows there is no pit in (1,1)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eah!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here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s a pit in (2,0) (pit-def in diagra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ayer combines knowledge gained at different times to make inferen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6:48Z</dcterms:created>
  <dc:creator>James Martin</dc:creator>
  <dc:description/>
  <dc:language>en-US</dc:language>
  <cp:lastModifiedBy>Janyce Wiebe</cp:lastModifiedBy>
  <dcterms:modified xsi:type="dcterms:W3CDTF">2012-09-28T21:31:15Z</dcterms:modified>
  <cp:revision>113</cp:revision>
  <dc:subject/>
  <dc:title>CSCI 5582 Artificial Intelligence</dc:title>
</cp:coreProperties>
</file>