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dt" idx="4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Click to move the slide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 type="ftr" idx="4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6"/>
          <p:cNvSpPr>
            <a:spLocks noGrp="1"/>
          </p:cNvSpPr>
          <p:nvPr>
            <p:ph type="sldNum" idx="4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05B49-3FD1-4BF2-A5C8-A985B953ED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02459-0E8F-46FA-948B-2DE6D44EA1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wonder if the notes show up 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9F93D-B1D2-468D-9B52-9E4D2B59B2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501F5-C161-4A6C-B464-B8F9E13F96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C621B-FC57-41BB-A53B-367BE7900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0BA11-7009-49DB-9595-4C91A5929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437B7A-9DCF-4E3F-9728-FC7ACAF43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30DB8F-1900-4923-B11A-1F3A71E37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3820EF-0BD2-474F-9863-4B5435760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B5A996-C3C1-4CDA-987F-CD282EEEA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8736BF-6761-4371-BEC8-325D72F80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1C51A0-F4C9-4795-A233-7865D0370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798F1F-0A19-40B1-872E-BBBEB3319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1A6180-B371-4094-BF46-97077338A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A352E5-C0C2-4696-952C-E55B1BA57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2E6F02-7176-48C7-AD11-4E902C40F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D2EB0-2621-4351-A681-A662942BA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179450-B34B-46DD-912A-2AAA80EAF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E1E4F8-4326-470B-B5F7-5AC7D8BD8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B3BE59-5EEB-4A91-B746-42885A166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5FE32E-CDD6-408A-A8BC-4A8887957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D93E9F-D20B-405C-82C4-2FCA26B28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961AFD-1F6D-4C4F-B148-08FBE2CC6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24712F-AFD5-4298-B2EE-453799AC2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AE7C3B-AF93-4E20-96F2-B2A3904FA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5D42AA-9F5D-4DBF-9249-7F89ED22F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7F012F-8BE7-431F-B8DA-144E93DB5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2FF38-E080-4140-8838-9996DAC9A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4FB57B-ACD6-4B59-BB7C-730CEC117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811A95-6974-4828-944A-FB382F98C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4624F3-F6F7-4A79-A98A-B634CAA72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93DE2F-4054-464D-9B89-2B8C0F78A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718F0D-F0F4-4749-9148-2931841AE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2BAC93-EBF4-40F1-9C26-F848AC26C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29F074-3E86-4713-BFF5-FA2F8AADA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5C6A9E-1631-455F-B109-C363F8C4B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02555A-3B8C-45A8-8483-A7A5C7916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DDA858-F87B-406C-8B63-9A5DE7F43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CE616-1D11-4AF5-8441-4A12BE0CA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22698A-A2BB-4748-B419-8F97D5A16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B141F0-5CA6-48B1-8D8A-EED566CDB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0B1C77-CA87-4F2D-8589-C1CBCF5CD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65CEEA-EFF2-4EED-8BC0-CA56D1C2C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D19F57-7AA7-469D-A74F-F3F26069D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562767-70B5-4DED-BD1B-7311620B6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46D67D-34D5-44AE-BD9D-724A0873A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79FB5F-8C7D-4BAB-A5EC-1C18FD47F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2072C5-858A-44E9-912D-5FD72F512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4C4E6C-CEE3-44F8-92F5-93782DD42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7F29B-879C-4FE2-9E98-1D8F7120F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05FCAC-A09C-4AC6-8418-37C3FF2AA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C99614-BF6C-4910-A07E-DD18E535C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688A50-F763-405B-8760-038B2D5B0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62EAC4-B5CF-4896-87B2-552B09970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26B1AC-94D0-409B-80D0-1CC41B8D6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D9D8A2E-2ACF-400A-9482-B22E326F8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F931575-8E39-4DAF-87BC-D2C6B273E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8F931D4-BAA4-454C-93A8-4F1C97E74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B152F6A-CBC8-4867-A995-ABCE1641F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BAB1D7D-6123-400E-854C-26BE16A72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7172A-FCFD-48AF-8104-9DC7CE368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3913D63-160A-4CF4-AFB2-E4F3B07F1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5AB7609-84CE-4736-903A-C1427FDE3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530C03F-9EDC-45A0-8B79-E8FB9C49C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1677312-073D-4543-90DA-2AC1D6AC0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C0139F9-13EE-443A-AD5D-F6D34849F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57195C8-1469-4CDE-A836-F6D8C90F4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43EC5A9-2B79-4EB3-B5E2-D629C5114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E5F82-C058-4759-91BF-44AFCB987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31844-08F3-4CE8-895A-D4265A64C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99134-F44B-4100-8B12-4E397CDAE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026BB-EAE4-4DF9-80B7-74195CAA7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9B7AD-8F10-43BA-B746-31F650E44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78EDE-398D-4362-8160-0506AB171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FB067-6E72-4907-8C76-A64F1F7D6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E5300-0D8C-4606-8BE5-752D88951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75BF0-09B8-4671-9ED2-BEAABAE58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25215-A90C-4C1B-BC2D-EDA2C93BF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233534-1F91-48B7-870D-8E5A92175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4658C2-5CA0-49DE-B71A-E0EFE266C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DBE41A-5AFE-4CBC-8BB2-CF4D76468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A9D7CD-0CCC-428B-BA6D-C9DE3343A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5EA098-C22C-4D97-ADA7-4FE1EF689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7471F-5A55-40D2-A8F8-A02A4E702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BB6805-2624-4B1C-89DC-F26A4EE20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02E9CA-0F12-4D3F-B2E3-B06DD7A8E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F17AE3-662B-41DC-B176-71F691F26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54B230-BB9D-41A3-A595-377767E2E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4CC483-A280-4C96-A50E-15E6257FD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FBFDFC-0964-4731-B818-CE0032783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29B9A7-75C5-41FF-B6FE-D9E77CAB0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FE45E8-A413-4464-A94B-9E68EDF7B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88689B-7DD3-44A9-AC3F-750E65145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A095FA-56A8-4F4A-8928-4FABD3534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84937-1A07-4146-A342-ADDD23D66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EF04A2-758E-4A7B-9CF4-4BBA316B3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C0B6C1-89E1-4F0D-B798-BA238C19D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C1CF23-EC55-43E1-83A8-DC6F86191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84AE36-CCF4-4E27-81EA-7E93398E0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ECF3E6-EC12-4364-BF78-7757DD920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C85579-B5BB-4DFF-AA17-1FD59A52A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191081-96A3-47A2-B65D-0FB693092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0F0536-67DC-4469-9034-72A9783AB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8EAAC1-6DC9-49A3-B746-8FE3637CE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93934A-7614-4CBE-9816-B4E55FD2C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76DC7-9B07-4178-88F4-00B820C47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EA08EF-7EEE-4AE1-A76F-8EDDFFB7D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9EE45B-54EC-4B36-8A51-058AFE731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B75047-0435-410F-881A-D08DB49F4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B098B1-DD7A-47FB-B83C-5288001E7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1B495E-5087-431B-BAC3-ADA3FC49A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B29244-5360-49A2-9613-04D913A87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8C3C2D-812A-41AE-BD97-FE4A76288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D1A2A9-D2ED-4D3A-8D42-76DB52156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E28AC6-CA42-4DFC-A2BE-6EEE56BBE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CAED68-57FB-4797-8845-2DF590AB8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2616B-9B36-4219-846B-AA4105BDE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020969-818A-45AB-862F-CB5C35112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5FABA8-6D81-409F-A051-EC197AA8C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0504D3-E2F8-48B4-BC67-338D17558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652B7B-71DD-4726-882A-5F72FB69A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E6928F-08C8-418E-BDE0-F77D6EE60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CC5658-9787-45D1-8C44-1D59BF572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0E5D9E-9183-4C69-8113-877351D80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244A66-C847-42CC-B178-DCEDC8FEA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488A96-A510-4647-8C8E-C7C207D41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F11C01-1A20-4E39-9B83-69DCD4FA7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C537B-DCC5-4FCB-B09B-CCDDE7C82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4ACDCB-8F28-49F8-89FF-5114FDCC4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19B57A-5503-4353-B060-3AE6AD665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6EA198-AD72-4D7F-9253-F59421428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D2DB60-A7DD-4894-9299-10F7EEBDA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E543ED-FF27-469F-99E3-FCA9478B8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D25965-29E9-437B-A20B-645E235CF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8099DA-3A16-4B95-9B08-60F31CACE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DC1235-3EB4-4FFB-A602-997337A21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2135B1-38D6-44F8-967E-D96CD8205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A4AC87-03AD-4008-BF26-7EB90351D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D552D-12BB-42D7-B15D-54174373B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910AC2-148F-4F4C-B8E8-47ADDE267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E6726F-9247-4412-AE31-B144A95BC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0B60E7-1247-4831-BB5B-2CB36FDBF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5DB459-7110-4D06-864D-4D7BDB3E9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E86084-FA72-4755-A19E-C7A3E364A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0D3FF4-D5C9-4504-89BE-7CEDF4C3B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561A10-7305-4DAC-A4A5-8AE6780E8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4FE1F3-528F-4325-84E7-90259801A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CF4408-1B63-4FBB-8840-AD2836EB6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588DF5-D560-4098-BBF6-E87518EA3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E538C-CEE6-427E-9E24-429AE8780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A5FE30-0E77-4BD0-A6E4-5BE84CF65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C9B5CD-6EB5-4A28-BF7E-34724B94B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1B5F87-4DE1-4BBE-AD50-66CB2ED1E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E32B2D-2E81-4DA8-B342-8AF242FC0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C0CC3D-C1FE-4BA8-9D48-C6AA3C33A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8B4AAE-211F-45BA-9317-B95E619B1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5424A0-4987-4D93-865F-CA61D232B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6839BE-A40D-434A-8CCB-BA8DE0EEA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A5336E-CEC7-443B-AADD-92AA42B26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FE426A-D072-43E3-821A-BDBC9DE3E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Click to edit the title text format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D6CE8-986F-47AD-ABE6-FE7D55F7A8C9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SCI 5582 Fall 20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F6D17-9691-4E9B-9948-3BD7688292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Click to edit the title text format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70531-0646-4539-A43F-AD82ED14698B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SCI 5582 Fall 20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F06A1-D756-4B0C-929E-ACFEE5BC82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Click to edit the title text format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45F78-D743-49A9-AEEF-07418C476DD6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SCI 5582 Fall 20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13243-2C1A-4BE1-BA36-36FB878F2E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Click to edit the title text format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37401-1163-4BAD-91E1-9D6D8308B397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SCI 5582 Fall 20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3AC27-28A8-47AB-9F65-341A02B9AE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Click to edit the title text format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282BD-8372-46BD-8580-B96B4DB5F70D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SCI 5582 Fall 20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70AF7-84C4-4C05-AE00-DAC9412AE8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Click to edit the title text format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8148F-F34C-4D99-9A24-CABF6BA3FB9B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SCI 5582 Fall 20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EED09-D8E9-4D31-AF8C-14832D7FA9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Click to edit the title text format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EBB5C-8D9B-42F5-9448-A07A951D9728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SCI 5582 Fall 20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C09E1-326D-42FA-A26A-BF81ECC8B0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Click to edit the title text format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48590-7E13-491A-AA12-EF3E80979534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SCI 5582 Fall 20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0276F-8F9C-4797-8FEB-FCAAABA400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Click to edit the title text format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61811-2590-43D2-ABB8-9310797C59EF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SCI 5582 Fall 20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91A51-5283-40B6-9BE5-E202F9F57E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Click to edit the title text format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D0483-D57A-4EE3-A4B1-2FD1D6FA6F85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SCI 5582 Fall 20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13A94-4D06-4DD5-B9F5-C1F66CF628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Click to edit the title text format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23627-6F3B-445B-A16B-F5986BB1BB77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SCI 5582 Fall 20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9C932-67CC-472B-9DCA-F73A1313D5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Click to edit the title text format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634A5-D87F-4D23-904F-A21FEEE6CAED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SCI 5582 Fall 20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FBA31-92B5-4E04-B771-7E4D713BF4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Click to edit the title text format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E4403-FB74-4001-BDE8-38C6A6B4F832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SCI 5582 Fall 20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0D856-8176-4135-A0DA-3AF5B560A1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cs.pitt.edu/~wiebe/courses/CS2710/Fall2013/syllabus.html" TargetMode="External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44D32-E5A3-4AF4-A46F-D289ACF5DD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CS 2710, ISSP 2610</a:t>
            </a:r>
            <a:br>
              <a:rPr sz="3200"/>
            </a:b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Foundations of Artificial Intelligence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troducti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Thinking Like Humans?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6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r this approach, need a way to determine how humans think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ntrospection (rejected by researchers as too subjective)_x000e_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sychological experiments: predicting (based on cognitive theory) and then testing, behavior of human subjects; matched predictions give evidence for the theory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rain imaging – observing the brain in actio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gnitive Science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xpress a theory as a computer program; input/output behavior matching human behavior is evidence for the theory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mputer models from AI and experimental techniques from Psychology; als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urophysiological evidence incorporated into computational models, e.g. visio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9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D9D66-D336-4953-A7A7-A42FDEE5B8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Thinking Like Humans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7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AI and Cognitive Science are now largely distinct research areas  [board]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2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E3493-7FB8-4258-A23F-1489A2F4CC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Thinking Rationally?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pic>
        <p:nvPicPr>
          <p:cNvPr id="574" name="Content Placeholder 4" descr="F1929-7-123insitu.jpg"/>
          <p:cNvPicPr/>
          <p:nvPr/>
        </p:nvPicPr>
        <p:blipFill>
          <a:blip r:embed="rId1"/>
          <a:srcRect l="-67101" t="0" r="-67101" b="0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sp>
        <p:nvSpPr>
          <p:cNvPr id="575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FBFD1-056D-4B20-B853-784C65D8E1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cc"/>
                </a:solidFill>
                <a:latin typeface="Comic Sans MS"/>
              </a:rPr>
              <a:t>The </a:t>
            </a:r>
            <a:r>
              <a:rPr b="0" lang="ja-JP" sz="3800" spc="-1" strike="noStrike">
                <a:solidFill>
                  <a:srgbClr val="3333cc"/>
                </a:solidFill>
                <a:latin typeface="Comic Sans MS"/>
              </a:rPr>
              <a:t>“</a:t>
            </a:r>
            <a:r>
              <a:rPr b="0" lang="en-US" sz="3800" spc="-1" strike="noStrike">
                <a:solidFill>
                  <a:srgbClr val="3333cc"/>
                </a:solidFill>
                <a:latin typeface="Comic Sans MS"/>
              </a:rPr>
              <a:t>Laws of thought</a:t>
            </a:r>
            <a:r>
              <a:rPr b="0" lang="ja-JP" sz="3800" spc="-1" strike="noStrike">
                <a:solidFill>
                  <a:srgbClr val="3333cc"/>
                </a:solidFill>
                <a:latin typeface="Comic Sans MS"/>
              </a:rPr>
              <a:t>”</a:t>
            </a:r>
            <a:r>
              <a:rPr b="0" lang="en-US" sz="3800" spc="-1" strike="noStrike">
                <a:solidFill>
                  <a:srgbClr val="3333cc"/>
                </a:solidFill>
                <a:latin typeface="Comic Sans MS"/>
              </a:rPr>
              <a:t> approach</a:t>
            </a:r>
            <a:endParaRPr b="0" lang="en-US" sz="3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7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mic Sans MS"/>
              </a:rPr>
              <a:t>Logicist tradition:</a:t>
            </a:r>
            <a:endParaRPr b="0" lang="en-US" sz="17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mic Sans MS"/>
              </a:rPr>
              <a:t>Logic:  notation and rules of derivation for thoughts</a:t>
            </a:r>
            <a:endParaRPr b="0" lang="en-US" sz="15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mic Sans MS"/>
              </a:rPr>
              <a:t>Aristotle: what are correct arguments/thought processes?</a:t>
            </a:r>
            <a:endParaRPr b="0" lang="en-US" sz="15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mic Sans MS"/>
              </a:rPr>
              <a:t>Direct line through mathematics, philosophy, to modern AI</a:t>
            </a:r>
            <a:endParaRPr b="0" lang="en-US" sz="15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mic Sans MS"/>
              </a:rPr>
              <a:t>Problems:</a:t>
            </a:r>
            <a:endParaRPr b="0" lang="en-US" sz="17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mic Sans MS"/>
              </a:rPr>
              <a:t>Not all intelligent behavior is mediated by logical deliberation</a:t>
            </a:r>
            <a:endParaRPr b="0" lang="en-US" sz="15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mic Sans MS"/>
              </a:rPr>
              <a:t>It is difficult to express informal knowledge in logic</a:t>
            </a:r>
            <a:endParaRPr b="0" lang="en-US" sz="15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mic Sans MS"/>
              </a:rPr>
              <a:t>It is not sufficient:</a:t>
            </a:r>
            <a:endParaRPr b="0" lang="en-US" sz="15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Need a search process to go down fruitful reasoning paths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3333cc"/>
                </a:solidFill>
                <a:latin typeface="Comic Sans MS"/>
              </a:rPr>
              <a:t>logical systems tend to do the wrong thing in the presence of uncertainty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3333cc"/>
                </a:solidFill>
                <a:latin typeface="Comic Sans MS"/>
              </a:rPr>
              <a:t>Logic is important in AI; but a pure logicist approach (early AI history) to intelligence is not effective</a:t>
            </a:r>
            <a:endParaRPr b="0" lang="en-US" sz="17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That leaves us with …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8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1DB73-F8C9-4652-8F1B-685610E1F8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B2E30-2FE9-4E4D-911C-9273EDB799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Acting Rationally: Our Basic Framework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Getting computers to </a:t>
            </a:r>
            <a:r>
              <a:rPr b="0" lang="en-US" sz="2000" spc="-1" strike="noStrike">
                <a:solidFill>
                  <a:srgbClr val="990033"/>
                </a:solidFill>
                <a:latin typeface="Comic Sans MS"/>
              </a:rPr>
              <a:t>do the right thing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based on their circumstances and what they know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Irrational != insane; irrationality is sub-optimal actio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ational != successful; the most rational action may not succeed due to some circumstance beyond our control or due to incomplete knowledg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Make the best choice, given the option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Rational agents [board]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1B6E8-A134-4F10-87F1-CD0F12A0FF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Rectangle 6"/>
          <p:cNvSpPr/>
          <p:nvPr/>
        </p:nvSpPr>
        <p:spPr>
          <a:xfrm>
            <a:off x="152280" y="762120"/>
            <a:ext cx="883944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40­1950: Early days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1943: McCulloch &amp; Pitts: Boolean circuit model of brain 1950: Turing's </a:t>
            </a:r>
            <a:r>
              <a:rPr b="0" lang="ja-JP" sz="2400" spc="-1" strike="noStrike">
                <a:solidFill>
                  <a:srgbClr val="3333cc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omputing Machinery and Intelligence</a:t>
            </a:r>
            <a:r>
              <a:rPr b="0" lang="ja-JP" sz="2400" spc="-1" strike="noStrike">
                <a:solidFill>
                  <a:srgbClr val="3333cc"/>
                </a:solidFill>
                <a:latin typeface="Times New Roman"/>
              </a:rPr>
              <a:t>”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50—70: Excitement: Look, Ma, no hands!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1950s: Early AI programs, including Samuel's checkers program,     Newell &amp; Simon's Logic Theorist, Gelernter's Geometry Engine 1956: Dartmouth meeting: </a:t>
            </a:r>
            <a:r>
              <a:rPr b="0" lang="ja-JP" sz="2400" spc="-1" strike="noStrike">
                <a:solidFill>
                  <a:srgbClr val="3333cc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rtificial Intelligence</a:t>
            </a:r>
            <a:r>
              <a:rPr b="0" lang="ja-JP" sz="2400" spc="-1" strike="noStrike">
                <a:solidFill>
                  <a:srgbClr val="3333cc"/>
                </a:solidFill>
                <a:latin typeface="Times New Roman"/>
              </a:rPr>
              <a:t>”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 adopted 1965: Robinson's complete algorithm for logical reason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70—88: Knowledge­based approach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1969—79: Early development of knowledge­based system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1980—88: Expert systems industry boom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1988—93: Expert systems industry busts: </a:t>
            </a:r>
            <a:r>
              <a:rPr b="0" lang="ja-JP" sz="2400" spc="-1" strike="noStrike">
                <a:solidFill>
                  <a:srgbClr val="3333cc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I Winter</a:t>
            </a:r>
            <a:r>
              <a:rPr b="0" lang="ja-JP" sz="2400" spc="-1" strike="noStrike">
                <a:solidFill>
                  <a:srgbClr val="3333cc"/>
                </a:solidFill>
                <a:latin typeface="Times New Roman"/>
              </a:rPr>
              <a:t>”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88—: Statistical approaches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esurgence of probability, focus on uncertainty General increase in technical depth  Agents and learning systems… </a:t>
            </a:r>
            <a:r>
              <a:rPr b="0" lang="ja-JP" sz="2400" spc="-1" strike="noStrike">
                <a:solidFill>
                  <a:srgbClr val="3333cc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I Spring</a:t>
            </a:r>
            <a:r>
              <a:rPr b="0" lang="ja-JP" sz="2400" spc="-1" strike="noStrike">
                <a:solidFill>
                  <a:srgbClr val="3333cc"/>
                </a:solidFill>
                <a:latin typeface="Times New Roman"/>
              </a:rPr>
              <a:t>”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cc"/>
                </a:solidFill>
                <a:latin typeface="Comic Sans MS"/>
              </a:rPr>
              <a:t>AI applications</a:t>
            </a:r>
            <a:endParaRPr b="0" lang="en-US" sz="3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8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7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mic Sans MS"/>
              </a:rPr>
              <a:t>AI techniques are used in many common applications; </a:t>
            </a:r>
            <a:r>
              <a:rPr b="0" lang="en-US" sz="1900" spc="-1" strike="noStrike" u="sng">
                <a:solidFill>
                  <a:srgbClr val="990033"/>
                </a:solidFill>
                <a:uFillTx/>
                <a:latin typeface="Comic Sans MS"/>
              </a:rPr>
              <a:t>just</a:t>
            </a:r>
            <a:r>
              <a:rPr b="0" lang="en-US" sz="1900" spc="-1" strike="noStrike">
                <a:solidFill>
                  <a:srgbClr val="000000"/>
                </a:solidFill>
                <a:latin typeface="Comic Sans MS"/>
              </a:rPr>
              <a:t> a sample</a:t>
            </a:r>
            <a:endParaRPr b="0" lang="en-US" sz="19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lnSpc>
                <a:spcPct val="70000"/>
              </a:lnSpc>
              <a:spcBef>
                <a:spcPts val="374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mic Sans MS"/>
              </a:rPr>
              <a:t>Intelligent user interfaces</a:t>
            </a:r>
            <a:endParaRPr b="0" lang="en-US" sz="15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lnSpc>
                <a:spcPct val="70000"/>
              </a:lnSpc>
              <a:spcBef>
                <a:spcPts val="374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mic Sans MS"/>
              </a:rPr>
              <a:t>Search Engines</a:t>
            </a:r>
            <a:endParaRPr b="0" lang="en-US" sz="15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lnSpc>
                <a:spcPct val="70000"/>
              </a:lnSpc>
              <a:spcBef>
                <a:spcPts val="374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333cc"/>
                </a:solidFill>
                <a:latin typeface="Comic Sans MS"/>
              </a:rPr>
              <a:t>Spell/grammar checkers</a:t>
            </a:r>
            <a:endParaRPr b="0" lang="en-US" sz="15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lnSpc>
                <a:spcPct val="70000"/>
              </a:lnSpc>
              <a:spcBef>
                <a:spcPts val="374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333cc"/>
                </a:solidFill>
                <a:latin typeface="Comic Sans MS"/>
              </a:rPr>
              <a:t>Context sensitive help systems</a:t>
            </a:r>
            <a:endParaRPr b="0" lang="en-US" sz="15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lnSpc>
                <a:spcPct val="70000"/>
              </a:lnSpc>
              <a:spcBef>
                <a:spcPts val="374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mic Sans MS"/>
              </a:rPr>
              <a:t>Medical diagnosis systems</a:t>
            </a:r>
            <a:endParaRPr b="0" lang="en-US" sz="15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lnSpc>
                <a:spcPct val="70000"/>
              </a:lnSpc>
              <a:spcBef>
                <a:spcPts val="374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mic Sans MS"/>
              </a:rPr>
              <a:t>Regulating/Controlling hardware devices and processes (e.g, in automobiles)</a:t>
            </a:r>
            <a:endParaRPr b="0" lang="en-US" sz="15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lnSpc>
                <a:spcPct val="70000"/>
              </a:lnSpc>
              <a:spcBef>
                <a:spcPts val="374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0000"/>
                </a:solidFill>
                <a:latin typeface="Comic Sans MS"/>
              </a:rPr>
              <a:t>Voice/image recognition (more generally, pattern recognition)</a:t>
            </a:r>
            <a:endParaRPr b="0" lang="en-US" sz="15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lnSpc>
                <a:spcPct val="70000"/>
              </a:lnSpc>
              <a:spcBef>
                <a:spcPts val="374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0000"/>
                </a:solidFill>
                <a:latin typeface="Comic Sans MS"/>
              </a:rPr>
              <a:t>Scheduling systems (airlines, hotels, manufacturing)</a:t>
            </a:r>
            <a:endParaRPr b="0" lang="en-US" sz="15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lnSpc>
                <a:spcPct val="70000"/>
              </a:lnSpc>
              <a:spcBef>
                <a:spcPts val="374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mic Sans MS"/>
              </a:rPr>
              <a:t>Error detection/correction in electronic communication</a:t>
            </a:r>
            <a:endParaRPr b="0" lang="en-US" sz="15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lnSpc>
                <a:spcPct val="70000"/>
              </a:lnSpc>
              <a:spcBef>
                <a:spcPts val="374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mic Sans MS"/>
              </a:rPr>
              <a:t>Program verification / compiler and programming language design</a:t>
            </a:r>
            <a:endParaRPr b="0" lang="en-US" sz="15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lnSpc>
                <a:spcPct val="70000"/>
              </a:lnSpc>
              <a:spcBef>
                <a:spcPts val="374"/>
              </a:spcBef>
              <a:buClr>
                <a:srgbClr val="0000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ff"/>
                </a:solidFill>
                <a:latin typeface="Comic Sans MS"/>
              </a:rPr>
              <a:t>Web search engines / Web spiders</a:t>
            </a:r>
            <a:endParaRPr b="0" lang="en-US" sz="15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lnSpc>
                <a:spcPct val="70000"/>
              </a:lnSpc>
              <a:spcBef>
                <a:spcPts val="374"/>
              </a:spcBef>
              <a:buClr>
                <a:srgbClr val="0000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ff"/>
                </a:solidFill>
                <a:latin typeface="Comic Sans MS"/>
              </a:rPr>
              <a:t>Web personalization and Recommender systems (collaborative/content filtering)</a:t>
            </a:r>
            <a:endParaRPr b="0" lang="en-US" sz="15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lnSpc>
                <a:spcPct val="70000"/>
              </a:lnSpc>
              <a:spcBef>
                <a:spcPts val="374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mic Sans MS"/>
              </a:rPr>
              <a:t>Personal agents</a:t>
            </a:r>
            <a:endParaRPr b="0" lang="en-US" sz="15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lnSpc>
                <a:spcPct val="70000"/>
              </a:lnSpc>
              <a:spcBef>
                <a:spcPts val="374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mic Sans MS"/>
              </a:rPr>
              <a:t>Customer relationship management</a:t>
            </a:r>
            <a:endParaRPr b="0" lang="en-US" sz="15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lnSpc>
                <a:spcPct val="70000"/>
              </a:lnSpc>
              <a:spcBef>
                <a:spcPts val="374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0000"/>
                </a:solidFill>
                <a:latin typeface="Comic Sans MS"/>
              </a:rPr>
              <a:t>Credit card verification in e-commerce / fraud detection</a:t>
            </a:r>
            <a:endParaRPr b="0" lang="en-US" sz="15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lnSpc>
                <a:spcPct val="70000"/>
              </a:lnSpc>
              <a:spcBef>
                <a:spcPts val="374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0000"/>
                </a:solidFill>
                <a:latin typeface="Comic Sans MS"/>
              </a:rPr>
              <a:t>Data mining and knowledge discovery in databases</a:t>
            </a:r>
            <a:endParaRPr b="0" lang="en-US" sz="15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lnSpc>
                <a:spcPct val="70000"/>
              </a:lnSpc>
              <a:spcBef>
                <a:spcPts val="374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mic Sans MS"/>
              </a:rPr>
              <a:t>Computer games</a:t>
            </a:r>
            <a:endParaRPr b="0" lang="en-US" sz="15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lnSpc>
                <a:spcPct val="80000"/>
              </a:lnSpc>
              <a:spcBef>
                <a:spcPts val="425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425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6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0FF7B-B4B8-420A-93B4-6514825B9E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What to expect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8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mic Sans MS"/>
              </a:rPr>
              <a:t>Abstractive thinking/imagination sometimes needed</a:t>
            </a:r>
            <a:endParaRPr b="0" lang="en-US" sz="19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mic Sans MS"/>
              </a:rPr>
              <a:t>Extreme range of problem domains (as we just saw on the sample of applications).    We need to look for frameworks that apply to a hugely diverse range of problem domains.  Abstract distinctions abound.    </a:t>
            </a:r>
            <a:endParaRPr b="0" lang="en-US" sz="17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mic Sans MS"/>
              </a:rPr>
              <a:t>Real problem domains are often so complex we need to work with simpler ones, and imagine what would be needed in a realistic domain</a:t>
            </a:r>
            <a:endParaRPr b="0" lang="en-US" sz="17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mic Sans MS"/>
              </a:rPr>
              <a:t>Not a definitive answer about which method is best; depends on the problem!  </a:t>
            </a:r>
            <a:endParaRPr b="0" lang="en-US" sz="19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mic Sans MS"/>
              </a:rPr>
              <a:t>AI problems are those that we really don</a:t>
            </a:r>
            <a:r>
              <a:rPr b="0" lang="ja-JP" sz="1700" spc="-1" strike="noStrike">
                <a:solidFill>
                  <a:srgbClr val="000000"/>
                </a:solidFill>
                <a:latin typeface="Comic Sans MS"/>
              </a:rPr>
              <a:t>’</a:t>
            </a:r>
            <a:r>
              <a:rPr b="0" lang="en-US" sz="1700" spc="-1" strike="noStrike">
                <a:solidFill>
                  <a:srgbClr val="000000"/>
                </a:solidFill>
                <a:latin typeface="Comic Sans MS"/>
              </a:rPr>
              <a:t>t know how to solve.  Otherwise, we would use a direct solution </a:t>
            </a:r>
            <a:r>
              <a:rPr b="0" lang="en-US" sz="1700" spc="-1" strike="noStrike">
                <a:solidFill>
                  <a:srgbClr val="990033"/>
                </a:solidFill>
                <a:latin typeface="Comic Sans MS"/>
              </a:rPr>
              <a:t>(and it would not be considered AI anymore) </a:t>
            </a:r>
            <a:endParaRPr b="0" lang="en-US" sz="17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mic Sans MS"/>
              </a:rPr>
              <a:t>Real AI systems are often mixtures of various algorithms/techniques, experimentally determined</a:t>
            </a:r>
            <a:endParaRPr b="0" lang="en-US" sz="17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9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03804-51D2-4A5A-A546-5ECA164A33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Course Topics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9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Comic Sans MS"/>
              </a:rPr>
              <a:t>Four major areas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omic Sans MS"/>
              </a:rPr>
              <a:t>Problem solving and search. 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ormulating a search problem, uninformed and informed search; constraint satisfaction, optimization, and adversarial search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omic Sans MS"/>
              </a:rPr>
              <a:t>Logic and knowledge representati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irst-order logic; reasoning; knowledge representation scheme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omic Sans MS"/>
              </a:rPr>
              <a:t>Planning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tuation calculus, STRIPS, Partial-order planning, GraphPlan and SAT planner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omic Sans MS"/>
              </a:rPr>
              <a:t>Uncertainty and Learning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odeling uncertainty, Bayesian belief networks, decision theory, classification, density estimatio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2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946BE-7BBC-4055-B8C4-79BC22D402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cc"/>
                </a:solidFill>
                <a:latin typeface="Comic Sans MS"/>
              </a:rPr>
              <a:t>Wrap Up</a:t>
            </a:r>
            <a:endParaRPr b="0" lang="en-US" sz="3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9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Chapter 1: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ou will not be tested on Sections 1.2 and 1.3 (history; foundations)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.  But it</a:t>
            </a:r>
            <a:r>
              <a:rPr b="0" lang="ja-JP" sz="2400" spc="-1" strike="noStrike">
                <a:solidFill>
                  <a:srgbClr val="ff0000"/>
                </a:solidFill>
                <a:latin typeface="Comic Sans MS"/>
              </a:rPr>
              <a:t>’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s interesting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Be able to explain the different possible approaches to AI and why AI has settled on the rational action approach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Chapter 2: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ill be covered on homework 1; Any explicit exam question will be related to its coverage on homework 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5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45099-E77C-4A8B-93A9-77EEA4B36A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Welcome!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Comic Sans MS"/>
                <a:hlinkClick r:id="rId1"/>
              </a:rPr>
              <a:t>Syllabu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5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BC35C-D5CF-4265-A49B-379C2435F2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What is Artificial Intelligence?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4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 views on what makes an AI system (next slide; R&amp;N 1.1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pends on what matters more in the evaluati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asoning vs. Behavior [diagram]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uman performance vs. Rationalit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uman model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ational mode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8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7B62C-C9D0-4D4F-B1BD-97B606EF5F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A109C-6461-4F9A-91AF-BB63F57549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4 Views of AI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graphicFrame>
        <p:nvGraphicFramePr>
          <p:cNvPr id="551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205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hink like hu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hink rationall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5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ct like hu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ct rationall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Acting Like Humans?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5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uring (1950)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an machines think?</a:t>
            </a:r>
            <a:r>
              <a:rPr b="0" lang="ja-JP" sz="2000" spc="-1" strike="noStrike">
                <a:solidFill>
                  <a:srgbClr val="000000"/>
                </a:solidFill>
                <a:latin typeface="Comic Sans MS"/>
              </a:rPr>
              <a:t>”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ja-JP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an machines behave intelligently?</a:t>
            </a:r>
            <a:r>
              <a:rPr b="0" lang="ja-JP" sz="2000" spc="-1" strike="noStrike">
                <a:solidFill>
                  <a:srgbClr val="000000"/>
                </a:solidFill>
                <a:latin typeface="Comic Sans MS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perational test for intelligent behavior: the Imitation Gam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4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1311F-A4AA-4E1D-ABBD-CCE639A66C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Player C tries to determine which of A and B are human/computer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pic>
        <p:nvPicPr>
          <p:cNvPr id="556" name="Content Placeholder 4" descr="Turing_Test_version_3.png"/>
          <p:cNvPicPr/>
          <p:nvPr/>
        </p:nvPicPr>
        <p:blipFill>
          <a:blip r:embed="rId1"/>
          <a:srcRect l="-70888" t="0" r="-70888" b="0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sp>
        <p:nvSpPr>
          <p:cNvPr id="557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913C1-1DC5-4838-82C2-8429C0117F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Turing Test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5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Suggested the major components of AI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0000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NLP (communicate in language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0000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Knowledge representation (to store what it knows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0000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Automated reasoning (use knowledge to answer questions and draw conclusions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0000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Machine learning (adapt to new circumstances; prediction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0000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Visio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0000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Robotics (manipulate objects and move around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0000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0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FAB0A-98A4-4DF6-9F37-C235206C43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Turing Test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ot how we evaluate AI methods; Why? [board + next slide]_x000e_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3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A7CDD-1585-49CE-934D-1B415CA006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ample Eliza Dialogu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Joseph Weizenbaum ~1965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6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young woman: Men are all alike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eliza: In what way?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young woman: They're always bugging us about something specific or other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eliza: Can you think of a specific example?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young woman: Well, my boyfriend made me come here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eliza: Your boyfriend made you come here?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young woman: He says I'm depressed much of the time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eliza: I am sorry to hear you are depressed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young woman: It's true. I'm unhappy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eliza: Do you think coming here will help you not to be unhappy?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young woman: I need some help, that much seems certai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.eliza: What would it mean to you if you got some help?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young woman: Perhaps I could learn to get along with my mother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.eliza: Tell me more about your family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.young woman: My mother takes care of m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.eliza: Who else in your family takes care of you?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young woman: My father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6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5DC9A-5B8C-49AE-9EE0-73C2ED804D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5T18:49:42Z</dcterms:created>
  <dc:creator>James Martin</dc:creator>
  <dc:description/>
  <dc:language>en-US</dc:language>
  <cp:lastModifiedBy>Janyce Wiebe</cp:lastModifiedBy>
  <dcterms:modified xsi:type="dcterms:W3CDTF">2014-08-25T20:10:08Z</dcterms:modified>
  <cp:revision>50</cp:revision>
  <dc:subject/>
  <dc:title>CSCI 5582 Artificial Intelligence</dc:title>
</cp:coreProperties>
</file>