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AB2E-554E-4279-8CE1-A981CE19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5E2F-2AD1-4E8A-AC27-17937FA2A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dge:  sequence of local maxima.  See page 114 – that picture is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A30D-52D9-4EA2-9731-8B5645DB8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lots of varients of hill climb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20FC-DA2E-4C20-8CB6-605BB5A47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aling:  process used to temper or harden metals and glass by heating them to a high temperature and then gradually cooling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5A82-A9F3-4204-817F-0F3A14A37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211C-C1CA-46A5-A5FB-2563D8C7C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4D96-A2A1-4036-A815-C50C3764B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1263-B180-4BCE-9F80-C8D78E3A0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2924-49D9-4B10-A2E2-9FEAA686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ive improvement:  start with a complete configuration and make modifications to improv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424-B88E-441C-A40F-4EA031F7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1F9-0D5B-43DC-8A56-488BC07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6B6D5-D834-4AC1-B536-D9F5AADD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A1B1F-928F-4F7C-B75F-079CB92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12B1B-074A-4E0A-AB56-5C582B1B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9F95E-E40B-46E8-8A82-B6989E0E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CC2B2-2337-4319-9DF6-68D7E4F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2CCF7-E8B4-4D27-9F6B-0FEF021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A9B02-4283-4A42-9F27-CE74C249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3C3A1-2970-4916-9A3B-D49C5779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22225-81BC-4DF7-BE25-C7D94DC9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89F3B-EBFC-455A-99DD-065D774A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C63-3657-4BEF-8379-7A4E9CE8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408E3-5271-4CD0-81A3-2C9218FE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3A7DD-FB42-47F2-AFCF-15205EEC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18E44-8FFC-45FE-9019-CB9A2921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C3613-8C73-4ED3-A5F9-A45CDFE2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55857-FE6D-4712-80C8-075CF250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45E52-B8E4-4096-8F5A-90CFC2CA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811EB-AD1D-464C-B70F-09CF784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F482D-0705-4E4A-A48A-A5DF5E1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31808-7B5E-4169-8889-76C2E93A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CE1B5-4B49-4637-AABA-3D8EABAD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971-BA7F-4BAE-9403-9386C9E1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B0D65-2F03-492A-84D3-D55339AC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1D594-8B11-4F52-A8CC-F9145DE7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4E2DE-4576-4533-897C-74D8525F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E889F-6C6A-4AD6-875D-2C3E2117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913A3-C1AC-47E0-A720-BC711408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481DB-0335-4938-A627-30FC0EA4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7FB4C-67E0-46BD-BF9A-AE4839C1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B54D4-80BD-4039-B282-DDFBB6A5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60044-9202-4E7F-8442-619DBE42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7843F-1295-4C79-9324-47F3AB4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DBAB-6712-4DE7-9461-B274DF0B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C7A65-921C-44A3-A2D9-EDAF56FC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7DD0A-5BB2-4F68-88E7-494C636A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237FC-3D4E-40ED-A879-1C4F878E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CD2C8-3E3B-471E-BE8A-37D04E4A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49841-B9FB-476B-B68F-D95124AD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E06ED-8F79-410B-8A8C-7A345989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BEB33-B6EC-4A53-ACD9-AE3D64B1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EC174-58B2-4A70-97CE-1A4C2411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BA179-4A76-4B50-96C7-B7FCC7F9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86DD3-FCCC-48BB-BB7D-69F24BA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BCB0-481B-4BB1-A1B3-67ECD9C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8F9B2-DEA5-40B3-9268-B6260D4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E2A36-363E-40EE-AE24-33886A1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F8E38-8513-4920-AFA2-D14F22A5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0056A-15F5-4F98-BE72-EB30CEE2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A4EFA-D86D-4B89-A0A2-1B99E1B8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C4EE-0336-4100-8275-2209EAD6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13A9-2A60-464A-B0C8-8F57C2C9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99C4-59BF-4AFF-8FAF-A091E557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BFC2-1357-49E5-8FF5-A0929403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5F44-B05D-4820-BFC8-A476EDAA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820-1038-4267-8739-CFB8A92D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C19C-9936-4AD3-9633-14ADBB0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3906-C852-4030-9E54-B9C2298A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BFF1-302E-49AD-A9CB-EF8CB7F2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3654-A082-485C-BD16-C3C602E8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7186-9771-4651-AD78-CA3A7C56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95E93-FDE7-4F64-89CA-18BC94D7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E9EC-B1E4-413D-AD78-2C7CCE93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52F9-AB73-4F06-B905-2BF80158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72EC-DCB4-4BEF-B028-7F2C4ED5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6895-4CD1-459D-B57A-5BA30F27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4BE-F1DE-4ABC-A0D0-90517D38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3C3D7-0EFF-40AB-9697-2BB280B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14C3-A5AE-4EFE-8B52-6C2607CA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00F7-AFA1-4CF0-AF4F-1592F92D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6730-CFF5-446B-A80C-F185339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B234-05DC-471F-BF59-6920E6E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7A23-BBD8-46BC-A16A-7A46794A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22E4-BF41-4CF9-B378-2A805EEF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0B4AD-4213-42BD-B9CE-885B8327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6911-144B-4EE5-9EEF-BA42A0F6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0B8C-6494-4B3C-B2F9-DAF044D8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512-6861-4514-A8F0-140F1870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3254A-4533-435A-82B0-4CCFE53F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2D14-2FB2-4283-AB99-E04C0993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3F28-4CBF-4BFE-8A68-3BF17DD4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6F9D-D9F6-4266-9B48-E17C84FB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0F08-8397-4E22-B488-A174D291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F31F-FF64-4D04-A475-6BDD51FA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DC6F7-2F27-465B-8ECA-B5FC7651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B30B7-7B49-4ACA-AB47-A3A9DF6C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973C-6E87-4709-8809-6F99ADDD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0E1FC-232D-44A1-9583-663C724D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29F-E58F-4C00-A844-23518831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B856-5D15-4212-8B33-413C517D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C241F-FD1D-4486-A80B-C7261FC5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9D2D-556C-47C5-9EAF-0CBE467D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607C1-5F65-42D8-B8E7-B192C5C6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89001-C2B4-45A8-A234-BEF5BC3E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62734-E392-415D-8789-B356591E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C21C4-C11F-4985-B16C-845837E1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561A5-923B-4BF8-88E4-F201045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A4339-BEB8-4CD7-8629-ADE3A482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686BC-A162-4D0E-8E27-77C5210C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448-C6F0-4779-A088-267432C9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9AC22-EFFE-4BE1-9BDB-33EECB2B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AE31D-A3D0-4EA3-877A-D9D37A88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A280-5F1A-44A1-B222-9E47F979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38940-3664-4DC3-BB7A-7FC0E142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DBD64-B884-4E8C-9748-77985406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E6B2B-0EF5-44EE-B07D-F2585556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C51B9-B157-4725-94D0-632B04D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F5BD8-B478-49E0-A95E-9C825494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24CAD-8B71-4392-9E55-540E1CE3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2D4D-0D46-49C7-B7FE-158B22A0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D5A-6B9D-4892-975F-CC6D9478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236C3-5696-44EB-B936-1322B426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CECB5-D63A-4B26-8D46-7443FEA7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B53D5-8091-4B66-BEDB-0492D5FD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5B41F-C10B-49F7-A997-1870302D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C2BAA-96DD-4511-8B42-C20F0AEA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0AFCE-8F50-4368-8604-C48E5E17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A73F7-C531-4E7E-9482-519CB738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0FC84-C556-441E-90E3-ED01BB1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F0C33-0283-45C7-8E97-8B88DB4E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DC7A-9E70-4E29-99E0-DBA3B1C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D62-CA34-42BC-A052-EF48007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34017-7376-4689-8333-A822DAE5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B4C4D-6DE0-4403-A152-4D476649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5287A-E8D7-4912-BCAD-58D0424E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54E95-D061-4907-B942-607A8F71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AA38-2809-4152-BD4B-350D3BCA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53DF2-8406-4B4F-8A33-379AB556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19873-00B4-4214-9433-04AEF0C9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993AB-8887-4E8C-ACAB-BFA711C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C3F89-CB17-4F1F-AB7F-75FC00C7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65AD8-8852-452B-8CAA-3A50FE61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229-F099-4B0D-9C34-83BD8343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DD3E-42EF-4161-8627-0A541C9F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09C27-027A-4A2F-A067-BBEC40CC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D8F66-5770-4071-AF21-C88E78C5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1B7FC-5C61-4C13-8274-9535FEDC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998A6-96F3-4718-BA66-6B550EE3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C843F-A8C2-4EC0-AC78-8CA4ECCE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D2C6E-EA27-41FA-9B82-F899DAE0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60B3C-2F5A-4E2A-901A-4C58661F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90BBD-CBEC-46B7-8989-2E6E76E0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28A27-0956-477A-886D-9A0B5B0F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E50B-EB68-4B35-80AD-E715543CA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BD6D-3FD8-498B-BD13-723E373E9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5306-1D76-491F-9BD2-ACE5C6B0E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F9DE-19B2-4631-B023-9F0708030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9F36-BD7D-42C8-913E-D6BD6DAEF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66F-A8C5-4137-A81E-E35284A0B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F7FF-5991-4F66-BC8B-C5F674673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9E5F-EC3C-4114-A331-C4C3D2C58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24FC-F66E-4766-8B76-94499A32D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3F4C-4EE5-4F09-92E1-CB7BA0F9D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F5C2-38B3-49FB-8B46-5E336501E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I 5582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13CA-8F60-4FEC-8685-BA6F02F6B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B2CD-C1A2-4B67-A0C3-A4D66A711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S 2710, ISSP 2610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&amp;N Chapter 4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Search and Optim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cing yacht hull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representation has multiple components, including a vector of B-Spline surfaces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ors: modification of a B-Spline surface (e.g.)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 function estimates the time the yacht would take to traverse a course given certain wind conditions (e.g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D663-649A-4024-870F-DA0B42DA5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ison to tree/graphsearch framewor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Comic Sans MS"/>
              </a:rPr>
              <a:t>Chapter 3:  start state is typically not a complete configuration.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hapter 4:  all states 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Comic Sans MS"/>
              </a:rPr>
              <a:t>Chapter 3: binary goal test;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hapter 4:  no binary goal test, unless one can define one in terms of the objective function for the problem (e.g., no attacking pairs in 8-quee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Comic Sans MS"/>
              </a:rPr>
              <a:t>h: estimate of the distance to the nearest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ive function: preference/quality measure – how good is this stat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Comic Sans MS"/>
              </a:rPr>
              <a:t>Chapter 3: saving pa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hapter 4: start with a complete configuration and make modifications to improve 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2A63-1B9C-4F8D-8151-162D51EE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35FE-4B3A-4A88-A1F4-67FAD969A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sualiza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s are laid out in a landsc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Height corresponds to the objective function val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e around the landscape to find the highest (or lowest) pe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Only keep track of the current states and immediate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5139-CBAD-4084-9DF5-16A41DADA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cal Search Alogorith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Two strategies for choosing the state to visit n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ll climb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d anneal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Then, an extension to multiple current stat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tic algorith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148-FB53-4C92-A834-4E56FE03D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illclimbing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(Greedy Local Search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te nearby successor states to the current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Pick the best and replace the current state with that 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5A1-F734-4D12-B342-7C25F1C58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1258920" y="4221000"/>
            <a:ext cx="77058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Hill-climbing search problems</a:t>
            </a:r>
            <a:br>
              <a:rPr sz="2800"/>
            </a:br>
            <a:r>
              <a:rPr b="0" i="1" lang="en-US" sz="1600" spc="-1" strike="noStrike">
                <a:solidFill>
                  <a:srgbClr val="3333cc"/>
                </a:solidFill>
                <a:latin typeface="Comic Sans MS"/>
              </a:rPr>
              <a:t>(this slide assumes maximization rather than minimization)</a:t>
            </a:r>
            <a:endParaRPr b="0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Local maximu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 peak that is lower than the highest peak, so a suboptimal solution is retur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Platea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the evaluation function is flat, resulting in a random wal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Ridg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lopes very gently toward a peak, so the search may oscillate from side to s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Freeform 5"/>
          <p:cNvSpPr/>
          <p:nvPr/>
        </p:nvSpPr>
        <p:spPr>
          <a:xfrm>
            <a:off x="1763640" y="4365720"/>
            <a:ext cx="1224000" cy="15955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771" h="1005">
                <a:moveTo>
                  <a:pt x="0" y="1005"/>
                </a:moveTo>
                <a:cubicBezTo>
                  <a:pt x="41" y="702"/>
                  <a:pt x="83" y="400"/>
                  <a:pt x="136" y="370"/>
                </a:cubicBezTo>
                <a:cubicBezTo>
                  <a:pt x="189" y="340"/>
                  <a:pt x="249" y="884"/>
                  <a:pt x="317" y="824"/>
                </a:cubicBezTo>
                <a:cubicBezTo>
                  <a:pt x="385" y="764"/>
                  <a:pt x="468" y="0"/>
                  <a:pt x="544" y="7"/>
                </a:cubicBezTo>
                <a:cubicBezTo>
                  <a:pt x="620" y="14"/>
                  <a:pt x="695" y="441"/>
                  <a:pt x="771" y="8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116000" y="45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617120" y="60451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ocal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8"/>
          <p:cNvSpPr/>
          <p:nvPr/>
        </p:nvSpPr>
        <p:spPr>
          <a:xfrm flipV="1">
            <a:off x="3924360" y="4941360"/>
            <a:ext cx="50328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4427640" y="4941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4502520" y="599904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at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1"/>
          <p:cNvSpPr/>
          <p:nvPr/>
        </p:nvSpPr>
        <p:spPr>
          <a:xfrm flipV="1">
            <a:off x="6804000" y="4724280"/>
            <a:ext cx="432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2"/>
          <p:cNvSpPr/>
          <p:nvPr/>
        </p:nvSpPr>
        <p:spPr>
          <a:xfrm flipV="1">
            <a:off x="7236000" y="4581000"/>
            <a:ext cx="1368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7306560" y="60213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4"/>
          <p:cNvSpPr/>
          <p:nvPr/>
        </p:nvSpPr>
        <p:spPr>
          <a:xfrm flipV="1">
            <a:off x="5724360" y="436572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1CE-2876-4913-B9ED-03C958886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Random restart hill-climbing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(note: there are many variants of hill climbing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different hill-climbing searches from random starting positions stopping when a goal is fou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ave the best result from any search so f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If all states have equal probability of being generat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it is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plete with probability approaching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goal sta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ill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eventuall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 generated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ing an optimal solution becomes the question of sufficient number of restar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urprisingly effective, if there aren’t too many local maxima or plateaux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0FB-E22B-4895-AA19-D61265233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imulated Anneal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a metallurgical metaph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Start with a temperature set very high and slowly reduce i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hillclimbing with the twist that you can occasionally replace the current state with a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wors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e based on the current temperature and how much worse the new state i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881C-A7B4-4A32-99CF-DC77C4C47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imulated Anneal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ealing:  harden metals and glass by heating them to a high temperature and then gradually cooling th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t the start, make lots of moves and then gradually slow d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8EB5-2C75-477F-B383-1A7257134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imulated Anneal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formally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e a random new neighbor from current st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If it</a:t>
            </a:r>
            <a:r>
              <a:rPr b="0" lang="ja-JP" sz="1800" spc="-1" strike="noStrike">
                <a:solidFill>
                  <a:srgbClr val="a50021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s better take i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it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worse then take it with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ome probabilit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portional to the temperature and the delta between the new and old stat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F41F-19A7-4298-A286-A474C373F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arch Typ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tracking state-space 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Local Search and Optimiz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aint satisfaction 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versarial sear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EE3A-2684-44BE-8696-7CC17F1A5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Simulated anneal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ability of a move decreases with the amount </a:t>
            </a:r>
            <a:r>
              <a:rPr b="0" lang="el-GR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Δ</a:t>
            </a:r>
            <a:r>
              <a:rPr b="0" i="1" lang="en-US" sz="2000" spc="-1" strike="noStrike">
                <a:solidFill>
                  <a:srgbClr val="a50021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y which the evaluation is worse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econd parameter </a:t>
            </a:r>
            <a:r>
              <a:rPr b="0" i="1" lang="en-US" sz="2000" spc="-1" strike="noStrike">
                <a:solidFill>
                  <a:srgbClr val="a50021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 used to determine the probability: high </a:t>
            </a:r>
            <a:r>
              <a:rPr b="0" i="1" lang="en-US" sz="20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s more worse moves, </a:t>
            </a:r>
            <a:r>
              <a:rPr b="0" i="1" lang="en-US" sz="20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se to zero results in few or no bad mo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Schedule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 determines the value of </a:t>
            </a:r>
            <a:r>
              <a:rPr b="0" i="1" lang="en-US" sz="20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a function of the completed cy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A95D-E034-490C-ABF0-6015C57BF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1640" y="30492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ulated-Annealing(start,schedu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rent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← star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← 1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∞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← schedule[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n retur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xt ← a randomly selected successor of cur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← Value[next] – Value[current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&gt; 0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rent ← 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rent  ← next only with probability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Δ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E/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uitio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ll-climbing is incomp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ure random walk, keeping track of the best state found so far, is complete but very ineffic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e the ideas:  add some randomness to hill-climbing to allow the possibility of escape from a local optim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64C1-CD05-4795-ABC2-B04839DA5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uitio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lgorithm wanders around during the early parts of the search, hopefully toward a good general region of the state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oward the end, the algorithm does a more focused search, making few bad mo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788-A87E-415E-90EB-0B813F73B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oretical Completenes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 a proof that if the schedule lowers T slowly enough, simulated annealing will find a global optimum with probability approaching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practice, that may be way too many it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actice, though, SA can be effective at finding good solu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C452-C71B-4488-A305-8C4629B67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50A6-969A-4FAB-994C-606007480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cal Beam Search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 track of k states rather than just one, as in hill climb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comparison to beam search we saw earlier, this algorithm is state-based rather than node-bas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93A8-8D19-4E6C-8D05-C6D98E773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cal Beam Search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s with k randomly generated st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t each step, all successors of all k states are gener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ny one is a goal, alg ha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Otherwise, selects best k successors from the complete list, and repea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5312-66F1-4C1C-9BA3-0D4E42DAE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cal Beam Search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cessors can become concentrated in a small part of state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tochastic beam search:  choose k successors, with probability of choosing a given successor increasing with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 natural selection:  successor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offspring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a stat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organism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pulate the next generation according to its valu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fitnes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0D80-8358-4594-8774-8AEB95475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enetic Algorith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riant of stochastic beam se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e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ent states to generate success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CB68-B2CF-4AC8-853A-0AE2A8496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GA (pop, fitness-f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-pop = {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i from 1 to size(pop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rand-sel(pop,fitness-f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rand-sel(pop,fitness-f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 = reproduce(x,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(small rand prob): chil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ate(chil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child to new-p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 = new-p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til an indiv is fit enough, or out of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best indiv in pop, according to fitness-f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47E0-ED1E-4A86-A0A2-215174995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Local Search and Optimiza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ious searches: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keep paths 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memo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nd remember alternatives so search can backtrack.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olution is a path to a go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 may be irrelevant, if only  the final configuration is needed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(8-queens, IC design, network optimization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46C8-7649-4F52-85C6-78CF0C9FA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nction reproduce(x,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len(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= random num from 1 to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nd(substr(x,1,c),substr(y,c+1,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874B-60D4-4AB7-A9AB-43F21AF1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ample: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quee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eens on a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×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oard with no two queens on the same row, column, or diag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3" name="Picture 4" descr="4queens-sequence"/>
          <p:cNvPicPr/>
          <p:nvPr/>
        </p:nvPicPr>
        <p:blipFill>
          <a:blip r:embed="rId1"/>
          <a:stretch/>
        </p:blipFill>
        <p:spPr>
          <a:xfrm>
            <a:off x="838080" y="3505320"/>
            <a:ext cx="7467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A208-51C6-4E86-8BD8-76E1D72DB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enetic Algorithms</a:t>
            </a:r>
            <a:br>
              <a:rPr sz="4000"/>
            </a:br>
            <a:r>
              <a:rPr b="0" i="1" lang="en-US" sz="4000" spc="-1" strike="noStrike">
                <a:solidFill>
                  <a:srgbClr val="3333cc"/>
                </a:solidFill>
                <a:latin typeface="Comic Sans MS"/>
              </a:rPr>
              <a:t>Not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presentation of individu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Classic approac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individual is a string over a finite alphabet with each element in the string called a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ually binary instead of AGTC as in real D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lection strate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ection probability proportional to fitn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ection is done with replacement to make a very fit individual reproduce several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ndom pairing of selected individu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ndom selection of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cross-o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ach gene can be altered by a random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mu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2C51-DE1A-47B3-9DA6-01ADFADF1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enetic Algorithms</a:t>
            </a:r>
            <a:br>
              <a:rPr sz="4000"/>
            </a:br>
            <a:r>
              <a:rPr b="0" i="1" lang="en-US" sz="4000" spc="-1" strike="noStrike">
                <a:solidFill>
                  <a:srgbClr val="3333cc"/>
                </a:solidFill>
                <a:latin typeface="Comic Sans MS"/>
              </a:rPr>
              <a:t>When to use them?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tic algorithms are easy to a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s can be good on some problems, but bad on other probl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tic algorithms are not well underst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ample Local Search Problem Formula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travel: people traveling from different places: See chapter4example.txt on the course schedu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Segaran, T. Programming Collective Intelligence, O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illy, 200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5704-A1C9-4820-A7CE-74F213B6E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rapup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relevant part of the book is Chapter 4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6B69-1957-46D6-B59E-43C84AA9C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D4B8-B496-4FC7-903D-B6A373810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cal Search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single current state and move only to neighbors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 little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find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reasonable solu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large or infinite (continuous) state spaces for which the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other algorithms are not sui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53E8-2B4E-4CB4-A608-8A4C99AA7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timiza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search is often suitable for optimization problems.  Search for best state by optimizing an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objective fun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Comic Sans MS"/>
              </a:rPr>
              <a:t>F(x) where often x is a vector of continuous or discrete val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 with a complete configur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Comic Sans MS"/>
              </a:rPr>
              <a:t>A successor of state S is S with a single element chan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b9"/>
                </a:solidFill>
                <a:latin typeface="Comic Sans MS"/>
              </a:rPr>
              <a:t>Move from the current state to a successor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memory requirements, because the search tree or graph is not maintained in memory (paths are not sav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 queens:  find an arrangement of 8 queens on a chess board such that no two queens are attacking each 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 with some arrangement of the queens, one per colum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[j]: row of queen in column 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ors of a state:  move one que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: # pairs attacking each 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AB20-C75B-4D66-B081-001AF0D03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5943600" y="2965320"/>
            <a:ext cx="302904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veling salesman problem: visit each city exactly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 with some ordering of the c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representation – order of the cities visited (for e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or state: a change to the current ord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: length of the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B215-7346-4D7E-8C3B-F1713BAD0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ight Travel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e file on schedule.  We will look at the details later, but the general problem is for all members of the Glass family to travel to the same place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tate consists of flights for each member of the fami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or states:  All schedules that have one person on the next later or the next earlier departing or returning fl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: sum of different types of costs ($$, time,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8E8D-34AC-4446-BEED-ED587A581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yptosystems:  resistance to types of attacks is often discussed in terms of Boolean functions used in th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ch work on constructing Boolean functions with desired cryptographic properties (balancedness, high nonlinearity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approach: local search, where states are represented with truth tables </a:t>
            </a:r>
            <a:r>
              <a:rPr b="0" lang="en-US" sz="2000" spc="-1" strike="noStrike">
                <a:solidFill>
                  <a:srgbClr val="32946a"/>
                </a:solidFill>
                <a:latin typeface="Comic Sans MS"/>
              </a:rPr>
              <a:t>(that’s a simplificatio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a successor results from a change to the truth table; objective functions have been devised to assess (estimate) relevant qualities of the Boolean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E9F4-EB1B-40FC-AC4B-AD7144C63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5:16:52Z</dcterms:created>
  <dc:creator>James Martin</dc:creator>
  <dc:description/>
  <dc:language>en-US</dc:language>
  <cp:lastModifiedBy>Janyce Wiebe</cp:lastModifiedBy>
  <dcterms:modified xsi:type="dcterms:W3CDTF">2014-09-15T20:00:18Z</dcterms:modified>
  <cp:revision>107</cp:revision>
  <dc:subject/>
  <dc:title>CSCI 5582 Artificial Intelligence</dc:title>
</cp:coreProperties>
</file>