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E3F-FBFE-485E-AFE0-30723C14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061-9C70-4F7C-93E9-99CF0D4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A25-8302-4E15-B352-72F88514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F9E-BEC1-457D-BB0F-A9B12466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9F2-B01C-4F88-832D-4CBBD0B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078-FA7F-4185-BF6F-985B090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425-D965-469F-AAAF-EC96135B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9B9-77A1-4692-8899-E31744E5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AF7-3974-47B1-9AFE-AFE702E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E6C-4C81-4F30-ABB3-CB6363E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9F9-977F-432A-8F9F-3108CD9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4E8-34B3-486E-AA51-4FABDAF8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B628-92C3-414A-BB08-E87873CC0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Prio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uncondition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probabilit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f propos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true) = 0.1 and P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sunny) = 0.72 correspond to belief prior to arrival of any (new)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Probability distribu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ives values for all possible assignmen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&lt;0.72,0.1,0.08,0.1&gt;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rm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e., sums to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or a set of random variables gives the probability of every atomic event on those random variab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a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matrix of val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nn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in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ud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now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tru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4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2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16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fal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576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8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64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very question about a domain can be answered by the joint distribu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914400" y="4419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200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di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sterior prob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.e., given th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ll I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ation for conditional distrib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2-element vector of 2-element vect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e know more, 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lso given, then we 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 | toothache,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vidence may be irrelevant, allowing simplification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 | toothache, sunn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kind of inference, sanctioned by domain knowledge, is cru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conditional probabi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a | b) = P(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) / P(b) if  P(b) &g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duct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ives an alternative form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) = P(a | b) P(b) = P(b | a) P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eneral version holds for whole distributions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iew as a set of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equations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trix mul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in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derived by successive application of product ru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=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entist-joint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dentist-joint1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entist-joint3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compute conditional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0.016+0.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08 + 0.012 + 0.016 + 0.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495680" y="46483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44956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dentist-joint4"/>
          <p:cNvPicPr/>
          <p:nvPr/>
        </p:nvPicPr>
        <p:blipFill>
          <a:blip r:embed="rId1"/>
          <a:stretch/>
        </p:blipFill>
        <p:spPr>
          <a:xfrm>
            <a:off x="2971800" y="1447920"/>
            <a:ext cx="3809880" cy="1920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minator can be viewed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| 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,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&lt;0.108,0.016&gt; + &lt;0.012,0.064&gt;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 &lt;0.12,0.08&gt; = &lt;0.6,0.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dea: compute distribution on query variable by fixing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umming ov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,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ly, we are interested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osterior joint distribution of th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query variab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n specific valu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th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n the required summation of joint entries is done by summing out the hidden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s in the summation are joint entries becau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gether exhaust the set of random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vious proble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t-case time complexit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largest 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complexit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tore the joint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the numbers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re independent i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|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   or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|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    or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A, B) =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, Catch, Cavity, Wea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2 entries reduced to 12; for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dependent biased coins,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19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solute independence powerful but r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ntistry is a large field with hundreds of variables, none of which are independent. What to d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eather-independence"/>
          <p:cNvPicPr/>
          <p:nvPr/>
        </p:nvPicPr>
        <p:blipFill>
          <a:blip r:embed="rId1"/>
          <a:stretch/>
        </p:blipFill>
        <p:spPr>
          <a:xfrm>
            <a:off x="2286000" y="2286000"/>
            <a:ext cx="43434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othache, Cavity, C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has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 = 7 independent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 have a cavity, the probability that the probe catches in it doesn't depend on whether I have a tooth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| toothache,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me independence holds if I haven't got a cav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| toothache,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nditionally independ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| Toothache,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lent state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, Catch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 and Bayes'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rite out full joint distribution using chain rul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tch,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.e., 2 + 2 + 1 = 5 independent nu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In most cases, the use of conditional independence reduces the size of the representation of the joint distribution from exponential in </a:t>
            </a: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to linear in </a:t>
            </a: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Conditional independence is our most basic and robust form of knowledge about uncertain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duct rule P(a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) = P(a | b) P(b) = P(b | a) P(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Bayes' rule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(a | b) = P(b | a) P(a) / P(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 in distribution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Y|X) =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Y) /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) = α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ful for assessing 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diagnostic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bability from 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babilit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Cause|Effect) = P(Effect|Cause) P(Cause) / P(Eff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le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 meningiti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 stiff ne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(m|s) = P(s|m) P(m) / P(s) = 0.8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001 / 0.1 = 0.0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posterior probability of meningitis still very smal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 and 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| toothach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catch | Cav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ïve Ba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ause,Effec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… ,Effec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ause) 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Effec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|Cau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parameters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ive-bayes"/>
          <p:cNvPicPr/>
          <p:nvPr/>
        </p:nvPicPr>
        <p:blipFill>
          <a:blip r:embed="rId1"/>
          <a:stretch/>
        </p:blipFill>
        <p:spPr>
          <a:xfrm>
            <a:off x="1676520" y="3962520"/>
            <a:ext cx="48481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is a rigorous formalism for uncertain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probability of ever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omic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can be answered by summing over atom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ntrivial domains, we must find a way to reduce the joi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 th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a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leave for airpor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nutes before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t me there on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observability (road state, other drivers' pla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y sensors (traffic re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ertainty in action outcomes (flat tir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nse complexity of modeling and predicting 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nce a purely logical approach 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lsehood: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t me there on time”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conclusions that are too weak for decision mak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get me there on time if there's no accident on the bridge and it doesn't rain and my tires remain intact etc et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ght reasonably be said to get me there on time but I'd have to stay overnight in the airport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for handling 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nonmonotoni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gic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ume my car does not have a flat t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1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works unless contradicted by ev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sues: What assumptions are reasonable? How to handle contradictio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ules with fudge fact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1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get there on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prinkler |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Arial"/>
              </a:rPr>
              <a:t>0.99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WetGra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WetGrass |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sues: Problems with combination, e.g.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Sprinkle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3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Prob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el agent's degree of beli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iven the available eviden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1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will get me there on time with probability 0.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assert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mmar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lazine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failure to enumerate exceptions, qualification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ignora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lack of relevant facts, initial condition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ies relate propositions to agent's own state of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no reported accidents) = 0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ertions about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ies of propositions change with new evid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no reported accidents, 5 a.m.) = 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decisions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I believ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0.04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0.7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s me there on time | …)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0.95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0.999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ction to cho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m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e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missing flight vs. time spent wai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Utility theor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used to represent and infer preferen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Decision theor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probability theory + utility the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ic element: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random vari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milar to logic: possible worlds defined by assignment of values to random varia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o I have a cavity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Discre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one of &l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nny,rainy,cloudy,sn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main values must be exhaustive and mutually exclus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ementary proposition constructed by assignment of a value to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lex propositions formed from elementary propositions and standard logical connectives e.g.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eather = sunny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7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variable: e.g., Weather = sunny, Cavity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7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breviated as 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omic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cation of the state of the world about which the agent is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if the world consists of only two Boolean variable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hen there are 4 distinct atomic ev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othache = fal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Toothache = fal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c events are mutually exclusive and exhaus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proposi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xiom3-venn"/>
          <p:cNvPicPr/>
          <p:nvPr/>
        </p:nvPicPr>
        <p:blipFill>
          <a:blip r:embed="rId1"/>
          <a:stretch/>
        </p:blipFill>
        <p:spPr>
          <a:xfrm>
            <a:off x="2438280" y="3809880"/>
            <a:ext cx="3781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3:34:26Z</dcterms:created>
  <dc:creator>Min-Yen Kan</dc:creator>
  <dc:description/>
  <dc:language>en-US</dc:language>
  <cp:lastModifiedBy>Janyce Wiebe</cp:lastModifiedBy>
  <dcterms:modified xsi:type="dcterms:W3CDTF">2011-11-08T00:18:41Z</dcterms:modified>
  <cp:revision>13</cp:revision>
  <dc:subject/>
  <dc:title>Uncertainty</dc:title>
</cp:coreProperties>
</file>