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F40-B742-4861-AB6E-2DF83A97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9D-1B74-4E6B-8272-145144D2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F55-313D-41B0-8169-4703D563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D84-0F6D-4302-B3E6-1DDCAAED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D8A-3B9C-4E36-B632-7E92C0D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E06-6D1D-486F-A9FD-9D52936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C05-9677-48B0-9F48-245C6C0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357-6486-478D-8E7F-622ABBE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1BD-D1B8-4F59-BD52-6EDB189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73F-ED01-4731-A884-A79B2C3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E1B-EA0B-486D-A356-29F64EF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56A-365D-41C3-8F5E-EF2A46A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58A4-478B-4928-9D42-E2292191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516F-C986-4303-88D3-B8496045E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S 2710, ISSP 2610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pter 8, Part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Order Predicate Calculu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834-C90D-47F5-B514-1A2BB631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termining truth values of FOPC sentenc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 meanings to term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hnII”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J; “leftLeg(johnII)”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J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 truth values to atomic sent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ther(johnII,richardI)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ther(johnlackland,richardI)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Both Tr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ecause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&lt;J,R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n the set assigned “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brot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ong(leftleg(johnlackland))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ecause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J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n the set assigned “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ro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934A-576D-49A2-9002-3D3FC937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etermining Truth Values (continued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nnectives and negation are the same as in propositional log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 X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true wit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signe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or all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oma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xists X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true wit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signe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or som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om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0B0-B055-41D6-AA31-AA555DAE4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s given the Sample Interpretation 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X,Y brother(X,Y) 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ll X,Y ((person(X) ^ person(Y))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brother(X,Y)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ll X,Y ((person(X) ^ person(Y) ^ ~(X=Y))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brother(X,Y)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s X crown(X)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Exists X Exists Y sister(X,Y)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0D41-6F46-4DB2-9258-BB1D17958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presentational Schem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hat are the objects, predicates, and functions?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need to encode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knowledge of specific problem instan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general knowled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actice, consider interpretations just to understand what the choices are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world and interpretation are defined, or at least constrained, through the logical sentences we wri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529-69F0-49F8-B9DF-04F265D4C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oices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unctions vs Predicates</a:t>
            </a:r>
            <a:br>
              <a:rPr sz="4000"/>
            </a:b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p-Scheme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ll(fatherOf(bob)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p-Scheme 2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s X (fatherOf(bob,X) ^ tall(X) ^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Y (fatherOf(bob,Y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= Y)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therOf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both cases is assigned a set of 2-tuples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b,bf&gt;,&lt;t,tf&gt;,…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b,bf&gt;,&lt;t,tf&gt;,&lt;b,bff&gt;,…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possible if it is a predicate but not if it is a fun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721-E46D-4056-B5C7-B7F2AD50E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ices: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edicates versus 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-Scheme 1: Let’s consider the world: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 = {a,b,c,d,e}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d: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a,b,c}. pink: {d,e}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Some sentences that are satisfied by the intended interpret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d(a).  red(b). pink(d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~(All X red(X)).  All X (red(X) v pink(X)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ut what if we want to say that red is a primary color and pink is no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0D44-2072-41F6-9EF1-75B7030B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ices: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edicates versus Consta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-Scheme 2: The world: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 = {a,b,c,d,e,red,pink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lorof: {&lt;a,red&gt;,&lt;b,red&gt;,&lt;c,red&gt;,&lt;d,pink&gt;,&lt;e,pink&gt;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mary: {red} color: {red,pink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sentences that are satisfied by the intended    interpretation: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rOf(a,red). colorOf(b,red). colorOf(d,pink).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~(All X colorOf(X,red))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ll X (colorOf(X,red) v colorOf(X,pink) v color(X)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***~primary(pink).  primary(red).**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ified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s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ink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de them into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ercis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Design a representation scheme for these sentences: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ily is either a surgeon or a lawy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oe is an actor, but he also holds another j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surgeons are doc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oe does not have a lawyer (i.e., he isn’t the customer of a lawye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exists a lawyer all of whose customers are doc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 surgeon has a lawy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ote:  imagine that implications are also added, so the system can reason about people and their job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job, customer, doctor, surgeon, lawyer, actor, emily, jo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A41-661E-460E-8B5A-86091B42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rap-up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everything in Chapter 8 carefully, including the examples in 8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A4C-72AE-4E52-890E-138540B6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C43B-BF6C-4DC5-B095-6C629134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01920" y="457200"/>
            <a:ext cx="57859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icSentence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ntence Connective Sentence)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fier Variable, .. Sentence 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Sentenc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dicate(Term,…) | Term =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(Term,…)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^ | v |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fi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,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hn, 1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, B, C,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ezy, sunny,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therOf, 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2560" y="4952880"/>
            <a:ext cx="67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ledge engineering involves deciding what types of th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hould be constants, predicates, and functions for your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185640" y="2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D635-D70D-409B-A7F0-3C5EA755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view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mantics of FOP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Interpret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ssignment of elements from the world and elements of the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orld consists of a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main o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bjects D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set of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redicates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a set of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42D-678A-43AA-A20E-56AA3FDBA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view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mantic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constant is assigned an element of the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N-ary predic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ssigned a set of N-tu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N-ary fun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ymbol is assigned a set of N+1 tuples that does not include any pair of tuples with the first N elements and different (n+1)st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1EE1-ED81-4847-8A5D-A5065DA6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ample Domai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hard I, the Lionhearted (1189-119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ng John II, John Lackland, Evil King Joh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ir left le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r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cture in text (p. 29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243-E301-46BA-923A-FD096DD02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rotherhoo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R,J&gt;,&lt;J,R&gt;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eing on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C,J&gt;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eing a pers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J&gt;,&lt;R&gt;} or just {J,R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eing the king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J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eing a crown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C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ction for left legs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&lt;J,JLL&gt;,&lt;R,RLL&gt;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(book writes &lt;J&gt;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JLL, &lt;R&gt;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RL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ate of being strong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JLL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unctions are total, so the crown and left legs have left legs too.  Technical solution:  it is the left leg of things that don’t have left legs.   This is “invisible” and we will make no assertions about it, so we can ignore 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8CC-4313-4A85-9534-606EA4599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rpret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pecifies which objects, functions, and predicates are referred to by which constant symbols, function symbols, and predicate symbo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 the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intended interpret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ichardI”, “richardLionhearted” refer to R; “johnII”,”johnLackland” refer to J; “crown” refers to the cr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nHead”,”brother”,”person”,”king”, “isCrown”, “leftLeg”, “stro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some changes 10/8; will be written on the boar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A21-D103-46D0-BE1A-CE5B1144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ts of other possible interpreta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objects, so just for constants “richardI” and “johnII” there are 25 possi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that the legs don’t have their own names!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johnII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johnLackland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be assigned the same object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684-C5CD-41CC-848E-428A9E8F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hy isn’t the “intended interpretation” enough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gue notion.   What is intended may be ambiguous (and often is, for non-toy domai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Logically possible: square(x) ^ round(x).  Your KB has to include knowledge that rules this o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6:18:09Z</dcterms:created>
  <dc:creator>James Martin</dc:creator>
  <dc:description/>
  <dc:language>en-US</dc:language>
  <cp:lastModifiedBy>Janyce Wiebe</cp:lastModifiedBy>
  <dcterms:modified xsi:type="dcterms:W3CDTF">2012-10-09T14:58:45Z</dcterms:modified>
  <cp:revision>110</cp:revision>
  <dc:subject/>
  <dc:title>CSCI 5582 Artificial Intelligence</dc:title>
</cp:coreProperties>
</file>