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4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3A25-1A04-436E-BBF9-2484DBA6D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, for each action, it is mentioned exactly once in the successor state axioms for each of its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B507-F7DF-4ADD-B8B5-FDCBC03A7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C5BD-FA41-4A30-B3C5-39058AF55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FE72-5CAC-42A7-849A-57525EDEF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BEFE-2071-4188-99CF-B6B812454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776E-86F1-4C8B-A8CC-405AF96F8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3A00-2CB7-4104-9EB1-B3BE325E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B624-1BE4-4E65-9E5C-3851BDFC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B07B-043F-4BD0-B3F0-AAAF6ECE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1015-76D4-4E6F-BF7F-A0B8797F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0709-A9A4-40F3-8D7D-D41F0E70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6855-C3E7-47A8-9B2D-692D2AD8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02E9-0C55-452F-97EC-2C3D3737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5A1E-E544-4392-BA93-81B7E67A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4C15-7AC3-4B5C-B642-20F8EC3F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F62A-1F2F-4B97-9693-C16F074C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911B-E7D0-4AFD-A48C-5C34F164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7058-0C03-461D-B135-40BB0015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9D55-5666-4320-9F5A-8A790CAFF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Description_logic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A4A7-1D22-4E0D-9A0E-0B36D1134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S 2710, ISSP 2160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ituation Calcul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R and Plann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final topics in K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B368-37DC-4AAA-8AD4-29A21F1D8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oal:  g1 is in [1,1]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anning by answering the query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xists S at(g1,[1,1],resultSeq(S,s0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t(g1,[1,1],resultSeq([go([1,1],[1,2]),grab(g1),go([1,2],[1,1])],s0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he situation designated by the second term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_x0006_result(go([1,1],[1,2]),result(grab(g1),result(go([1,1],[1,2]),s0)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et</a:t>
            </a:r>
            <a:r>
              <a:rPr b="0" lang="ja-JP" sz="1800" spc="-1" strike="noStrike">
                <a:solidFill>
                  <a:srgbClr val="3333cc"/>
                </a:solidFill>
                <a:latin typeface="Comic Sans MS"/>
              </a:rPr>
              <a:t>’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 look at what has to go in the KB for such queries to be answered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6BC8-0778-442C-AAA0-E6827AA4B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ossibility and Effect Axiom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ssibility axioms: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condition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ss(A,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ffect axiom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ss(A,S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hanges that result from that a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E568-2364-446F-A5D1-FD56436F9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xioms for our Wumpus World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brevity:  we will omit universal quantifies that range over entire sentence.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nges over situations,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nges over actions,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O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ver objects (including agents),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ver gold, and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X,Y,Z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ver location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0C80-3011-4E2F-AA53-57B99254C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ossibility Axiom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possibility axioms that an agent ca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o between adjacent locations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ab a piece of gold in the current location, an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lease gold it is hold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226C-47D5-4BA1-9BDD-5807F438C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ffect Axiom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an action is possible, then certain fluents will hold in the situation that results from executing the a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oing from X to Y results in being at 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abbing the gold results in holding the gol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leasing the gold results in not holding 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B9EF-6E9F-471F-AB20-2760B22A5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rame Problem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run into the frame probl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ffect axioms say what changes, but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on</a:t>
            </a:r>
            <a:r>
              <a:rPr b="0" lang="ja-JP" sz="1800" spc="-1" strike="noStrike">
                <a:solidFill>
                  <a:srgbClr val="ff0000"/>
                </a:solidFill>
                <a:latin typeface="Comic Sans MS"/>
              </a:rPr>
              <a:t>’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 say what stays the sa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real problem, because </a:t>
            </a:r>
            <a:r>
              <a:rPr b="0" lang="en-US" sz="1800" spc="-1" strike="noStrike">
                <a:solidFill>
                  <a:srgbClr val="009973"/>
                </a:solidFill>
                <a:latin typeface="Comic Sans MS"/>
              </a:rPr>
              <a:t>(in a non-toy domain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ach action affects only a tiny fraction of all fluent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0347-63C2-4E11-83F2-EA1595306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rame Problem (continued)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e solution approach is writing explicit frame axioms, such a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t(O,X,S) ^ ~(O=agent) ^ ~holding(O,S)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t(O,X,result(Go(Y,Z),S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If something is at X in S, and it is not the agent, and also it is not something the agent holds, then O is still at X if the agent moves somewher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F fluents and A actions:   O(FA) axioms need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can do something more efficient than th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A016-EBBE-4EFC-9ABC-46E7EABE8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rame Problem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stays the sam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ctions,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luents, and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ffects/action (worst case).  Typically,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 &lt;&lt;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hat is, the effects of an action are typically only a small set of all the things that could chang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nt O(AE) versus O(AF) solu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44E9-6E5A-4EE5-85AA-A93CEBAFC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lving</a:t>
            </a:r>
            <a:r>
              <a:rPr b="0" lang="ja-JP" sz="3200" spc="-1" strike="noStrike">
                <a:solidFill>
                  <a:srgbClr val="3333cc"/>
                </a:solidFill>
                <a:latin typeface="Comic Sans MS"/>
              </a:rPr>
              <a:t>”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the Frame Problem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fluent, have successor-state axiom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tion is possi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fluent is true in result stat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tion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effect made it true v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 was true before and action left it alon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b9"/>
                </a:solidFill>
                <a:latin typeface="Comic Sans MS"/>
              </a:rPr>
              <a:t>Each of the E effects of each of the A actions is mentioned exactly once, so O(AE) axioms need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b9"/>
                </a:solidFill>
                <a:latin typeface="Comic Sans MS"/>
              </a:rPr>
              <a:t>Note:   we will return to this point later, after going through the wumpus world examp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CE57-C3F0-4AFA-B4CD-16FDC1A44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nitial KB (reminder)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O,X at(O,S,s0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[O=agent ^ X = [1,1]) v (O=g1 ^ X = [1,2])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O ~holding(O,s0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ernal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old(g1) ^ adjacent([1,1],[1,2]) ^ adjacent([1,2],[1,1]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race through reasoning so far on board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tate space handed o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 this point, we are switching to variables being small case, constants upper case, following the tex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tuation Calculu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anning in propositional logic: Section 7.7 through 7.7.2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tion 10.4.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ndou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ote Fall 2015:  you are only responsible for some of these notes, specifically what we covered 11/3/20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9949-F4BE-4E3E-96B2-DE8DA894D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4-5 are Successor-State Axiom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(Agent, x, 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djacent(x,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ss(Go(x,y),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old(g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t(Agent,x,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t(g, x, 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ss(Grab(g),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lding(g,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ss(Release(g),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ss(a,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Holding(g,Result(a,s)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a = Grab(g) v (Holding(g,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elease(g)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ss(a,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t(o,y,Result(a,s)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a = Go(x,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o = Agent v Holding(o,s))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v (At(o,y,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¬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z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 = Go(y,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(o = Agent v Holding(o,s))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0CF9-4A99-4D67-A588-23C4CE1BD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ore explicit version; Replaced existential with universal in 5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x,y,s ((At(Agent, x, 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djacent(x,y)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ss(Go(x,y),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g,x,s ((Gold(g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t(Agent,x,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t(g, x, s)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ss (Grab(g),s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g,s (Holding(g,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ss(Release(g),s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a,s,g (Poss(a,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Holding(g,Result(a,s)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(a = Grab(g) v (Holding(g,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elease(g))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a,s,o,y,z (Poss(a,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t(o,y,Result(a,s)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(a = Go(x,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o = Agent v Holding(o,s))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v (At(o,y,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¬(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= Go(y,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(o = Agent v Holding(o,s)))))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ustification:  previous 5 has ¬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z … the change is justified because this is equivalent to all z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¬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69D4-2CA1-4AC7-BFD9-66D216FA4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ame as previous, but without comment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x,y,s ((At(Agent, x, 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djacent(x,y)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ss(Go(x,y),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g,x,s ((Gold(g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t(Agent,x,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t(g, x, s)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ss (Grab(g),s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g,s (Holding(g,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ss(Release(g),s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a,s,g (Poss(a,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Holding(g,Result(a,s)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(a = Grab(g) v (Holding(g,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elease(g))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a,s,o,y,z (Poss(a,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t(o,y,Result(a,s)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(a = Go(x,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o = Agent v Holding(o,s))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v (At(o,y,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¬(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= Go(y,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(o = Agent v Holding(o,s)))))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A709-7F1E-4C05-A3FF-2200882CD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return to complexity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b9"/>
                </a:solidFill>
                <a:latin typeface="Comic Sans MS"/>
              </a:rPr>
              <a:t>Each of the E effects of each of the A actions is mentioned exactly once, so O(AE) axioms need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b9"/>
                </a:solidFill>
                <a:latin typeface="Comic Sans MS"/>
              </a:rPr>
              <a:t>Notes: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 effect may be to make a fluent true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(add it)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 to make it false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(delete i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d2db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b9"/>
                </a:solidFill>
                <a:latin typeface="Comic Sans MS"/>
              </a:rPr>
              <a:t>Counting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xioms</a:t>
            </a:r>
            <a:r>
              <a:rPr b="0" lang="en-US" sz="1800" spc="-1" strike="noStrike">
                <a:solidFill>
                  <a:srgbClr val="2d2db9"/>
                </a:solidFill>
                <a:latin typeface="Comic Sans MS"/>
              </a:rPr>
              <a:t> is a bit arbitrary, since a single axiom may mention a disjunction of add effects and/or a disjunction of delete effects (see the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olding</a:t>
            </a:r>
            <a:r>
              <a:rPr b="0" lang="en-US" sz="1800" spc="-1" strike="noStrike">
                <a:solidFill>
                  <a:srgbClr val="2d2db9"/>
                </a:solidFill>
                <a:latin typeface="Comic Sans MS"/>
              </a:rPr>
              <a:t> axiom for the blocks worl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 is true that each of the add or delete effects of each action is mentioned o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F53B-EC96-4A8E-8444-0B640B71E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return to complexity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118" name="Content Placeholder 2" descr=""/>
          <p:cNvPicPr/>
          <p:nvPr/>
        </p:nvPicPr>
        <p:blipFill>
          <a:blip r:embed="rId1"/>
          <a:stretch/>
        </p:blipFill>
        <p:spPr>
          <a:xfrm>
            <a:off x="682560" y="1962000"/>
            <a:ext cx="7778880" cy="571824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F8BF-4A09-43F5-B45B-7A4766361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all 2014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class exercise – the blocks world [handout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BDD1-1CA0-4281-A926-C5DAD2D72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028D-1AF3-474D-831D-FE580C7C0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Qualification Problem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suring that all necessary conditions for an action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success have been specified.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o complete solution in logic.   KR/planning designers have to decide how much detail to go int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did we see?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ophisticated KR sche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portant Problems in planning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dressed by successor-state axioms (Reiter 1991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ame Problem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what stays the same?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mification Problem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implicit effects, such as that gold moves too if the agent moves and it is holding the gol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 addressed completely in log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lification Probl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cepts for planning, such as fluents and situ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anning as sear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6FDB-42AE-4BFC-9465-324CAD90C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topped here, Fall 2014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D7D0-D081-4305-9FBE-ECFA7EE8B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B043-6AFD-4282-9EB3-854C5C15B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mantic Network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aphical aids for visualizing the knowledge ba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2db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b9"/>
                </a:solidFill>
                <a:latin typeface="Comic Sans MS"/>
              </a:rPr>
              <a:t>Efficient algorithms for inferring properties based on category membershi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ten, correspond to a subset of first-order log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Many varia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2db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b9"/>
                </a:solidFill>
                <a:latin typeface="Comic Sans MS"/>
              </a:rPr>
              <a:t>All distinguish among individual objects, categories of objects and relations among objec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ther topics in KR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mantic Networks:  12.5.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Description Logic: 12.5.2: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we didn</a:t>
            </a:r>
            <a:r>
              <a:rPr b="0" lang="ja-JP" sz="1800" spc="-1" strike="noStrike">
                <a:solidFill>
                  <a:srgbClr val="ff0000"/>
                </a:solidFill>
                <a:latin typeface="Comic Sans MS"/>
              </a:rPr>
              <a:t>’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 cover thi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Satisfiability and WalkSat:  Intro to Section 7.6; 7.6.2: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we didn</a:t>
            </a:r>
            <a:r>
              <a:rPr b="0" lang="ja-JP" sz="1800" spc="-1" strike="noStrike">
                <a:solidFill>
                  <a:srgbClr val="ff0000"/>
                </a:solidFill>
                <a:latin typeface="Comic Sans MS"/>
              </a:rPr>
              <a:t>’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 cover this]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50C5-5BD7-4056-B25D-4C743F39A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771D-1140-4448-850E-71631B9D0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xample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e figure 12.5 (next slid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 what edges and nodes me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Figure 12.5, indivs and categories look the sa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berOf(indiv,category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sterOf(indiv,indiv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bsetOf(category,category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sMother(indiv,indiv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139" name="Content Placeholder 4" descr="semanticnetwork.eps"/>
          <p:cNvPicPr/>
          <p:nvPr/>
        </p:nvPicPr>
        <p:blipFill>
          <a:blip r:embed="rId1"/>
          <a:srcRect l="-15740" t="0" r="-15740" b="0"/>
          <a:stretch/>
        </p:blipFill>
        <p:spPr>
          <a:xfrm>
            <a:off x="685800" y="14479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C8B2-FDB2-49FC-9A94-5623B3CCA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6AC9-0F9D-4ED6-B835-81E0C62FA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mantic Network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 hasMother(persons,femalePersons) consistent with the representation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ope:  hasMother is a relation between individu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1--  label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t2 mea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X (X in cat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all Y label(X,Y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Y in cat2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Note:  this does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say that each person has a mothe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4" name="Group 6"/>
          <p:cNvGrpSpPr/>
          <p:nvPr/>
        </p:nvGrpSpPr>
        <p:grpSpPr>
          <a:xfrm>
            <a:off x="1981080" y="3429000"/>
            <a:ext cx="1447920" cy="457200"/>
            <a:chOff x="1981080" y="3429000"/>
            <a:chExt cx="1447920" cy="457200"/>
          </a:xfrm>
        </p:grpSpPr>
        <p:sp>
          <p:nvSpPr>
            <p:cNvPr id="145" name="Rectangle 4"/>
            <p:cNvSpPr/>
            <p:nvPr/>
          </p:nvSpPr>
          <p:spPr>
            <a:xfrm>
              <a:off x="2133360" y="3505320"/>
              <a:ext cx="11430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5"/>
            <p:cNvSpPr/>
            <p:nvPr/>
          </p:nvSpPr>
          <p:spPr>
            <a:xfrm>
              <a:off x="1981080" y="3429000"/>
              <a:ext cx="14479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4EF0-5C5C-4270-A696-C4EB11786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mantic Network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t – label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val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X (X in ca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label(X,value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676520" y="20574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8A30-9863-455A-9A03-AE40865FD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nheritance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heritance is efficient and convenie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ce paths from individuals to categories, inheriting properties as you g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Figure 12.5, how many legs does John have?  Most specific (nearest) information wi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8B9F-720F-44CC-9DF5-D29421325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mantic Network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this type of semantic network, only binary relations are possib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richer representation is possible by reifying propositions and events (example: SNeP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forces creation of a rich ontology of reified concepts; many current ideas originated in semantic network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F1CB-3C13-4968-A38D-96A216EAA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scription Logic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en.wikipedia.org/wiki/Description_log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won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 be tested on the exam, but I want you to know what description logics a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bset of full first order logic; a family of logics of increasing expressiveness; well studied; most are decidable; good link between theory and practice.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stopped here Fall 2012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BACC-AB20-4D6F-8A8E-F1AFE3F82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roof method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of methods divide into (roughly) two kind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pplication of inference rul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egitimate (sound) generation of new sentences from ol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olu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ward &amp; Backward chaining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del check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earching through truth assign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proved backtracking: Davis--Putnam-Logemann-Loveland (DPLL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uristic search in model space: Walksa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odel Checking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families of efficient algorithm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te backtracking search algorithms:  DPLL  algorithm.  You read this on your own for the midterm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omplete local search algorith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lkSA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lgorith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D0DD-DB32-4B34-891E-A666CFBDA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ctions, Situations, and Events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Situation Calculu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obot is in the kitchen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(robot,kitche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 walks into the living room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(robot,livingRoo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(robot,kitchen,2:02p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(robot,livingRoom,2:17p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t what if you are not sure when it was?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can do something simpler than rely on time stamps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 Situation Calculus is a logic formalism for representing and reasoning about dynamic domain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DPLL algorithm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Determine if an input propositional logic sentence (in CNF) is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satisfiable. </a:t>
            </a:r>
            <a:r>
              <a:rPr b="0" lang="en-US" sz="1900" spc="-1" strike="noStrike">
                <a:solidFill>
                  <a:srgbClr val="ff0000"/>
                </a:solidFill>
                <a:latin typeface="Comic Sans MS"/>
              </a:rPr>
              <a:t>This is just backtracking search for a CSP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4" marL="220968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Improvements: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6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Early termination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 clause is true if any literal is true.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 sentence is false if any clause is false.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4" marL="220968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6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ure symbol heuristic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ure symbol: always appears with the same "sign" in all clauses.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e.g., In the three clauses (A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B), (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C), (C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A), A and B are pure, C is impure.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Make a pure symbol literal true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4" marL="220968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3      Unit clause heuristic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Unit clause: only one literal in the clause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The only literal in a unit clause must be true.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Note: literals can become a pure symbol or a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unit clause when other literals obtain truth values.  e.g.                             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9" name="Object 2"/>
          <p:cNvGraphicFramePr/>
          <p:nvPr/>
        </p:nvGraphicFramePr>
        <p:xfrm>
          <a:off x="6781680" y="5410080"/>
          <a:ext cx="1752840" cy="5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410080"/>
                    <a:ext cx="17528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Courier New"/>
              </a:rPr>
              <a:t>WalkSAT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algorithm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omplete, local search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aluation function: The min-conflict heuristic of minimizing the number of unsatisfied clau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lance between greediness and random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e figure 7.18 (on your ow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rapUp: Situation Calculu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anning in propositional logic: Section 7.7 through 7.7.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tion 10.4.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ndou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0E37-1B45-46DD-AAC1-8981E0DDB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rapUp: Other topics in KR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mantic Networks:  12.5.1 [not covered Fall 2014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9BA2-424C-45B3-A5C9-59792314E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AC24-D61F-4B13-8759-CD9AD5AE8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tuation Calculus Ontology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Actions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terms, such as 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ward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urn(right))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Situations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terms; initial situation, say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s0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all situations that are generated by applying an action to a situation. 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result(a,s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ames the situation resulting when action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s done in situation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8A99-CA23-4591-B7AF-13E011FB4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tuation Calculus Ontology continued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Fluents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functions and predicates that vary from one situation to the next.  By convention, the situation is the last argument of the fluent.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~holding(robot,gold,s0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Atempor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etern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redicates and functions do not change from situation to situation.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gold(g1)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stName(wumpus,smith)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djacent(livingRoom,kitchen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E7E3-41C1-495C-8965-77306E910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quences of Action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so useful to reason about action sequen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S resultSeq([],S) = 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A,Se,S resultSeq([A|Se],S) = resultSeq(Se,result(A,S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resultSeq([a,b,c],so) 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result(c,result(b,result(a,s0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B351-516A-49A3-A438-AE2F5F0B0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odified Wumpus World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luent predicates:  at(O,X,S) and holding(O,S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 our simple world, only the agent can hold a piece of gold, so for simplicity, only the gold and situation are argum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 situation:  at(agent,[1,1],s0) ^ at(g1,[1,2],s0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t we want to exclude possibilities from the initial situation too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0BB3-17AC-4B8D-9F9F-7521B7467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nitial KB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O,X (at(O,X,s0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[(O=agent ^ X = [1,1]) v (O=g1 ^ X = [1,2])]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O ~holding(O,s0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ernal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old(g1) ^ adjacent([1,1],[1,2]) ^ adjacent([1,2],[1,1])  etc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21:08:15Z</dcterms:created>
  <dc:creator>James Martin</dc:creator>
  <dc:description/>
  <dc:language>en-US</dc:language>
  <cp:lastModifiedBy>Janyce Wiebe</cp:lastModifiedBy>
  <dcterms:modified xsi:type="dcterms:W3CDTF">2015-11-03T16:05:13Z</dcterms:modified>
  <cp:revision>144</cp:revision>
  <dc:subject/>
  <dc:title>CSCI 5582 Artificial Intelligence</dc:title>
</cp:coreProperties>
</file>